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37" name=""/>
          <p:cNvSpPr/>
          <p:nvPr/>
        </p:nvSpPr>
        <p:spPr>
          <a:xfrm>
            <a:off x="380880" y="1158840"/>
            <a:ext cx="3962520" cy="2117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609480" y="1392120"/>
            <a:ext cx="3594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, there is no single line that passes through all the data points, so you try to find the line that best fits the data. This is called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-fitting l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739880" y="2649600"/>
            <a:ext cx="1758960" cy="30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-fitting l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04920" y="1041480"/>
            <a:ext cx="4114800" cy="300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68280" y="1158840"/>
            <a:ext cx="3962520" cy="2130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6880" y="1392120"/>
            <a:ext cx="3543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several ways to find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-fitting l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a given set of data points. In this lesson, you will use a graphical approa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570560" y="1066680"/>
            <a:ext cx="4185720" cy="4763520"/>
            <a:chOff x="4570560" y="1066680"/>
            <a:chExt cx="4185720" cy="4763520"/>
          </a:xfrm>
        </p:grpSpPr>
        <p:grpSp>
          <p:nvGrpSpPr>
            <p:cNvPr id="44" name=""/>
            <p:cNvGrpSpPr/>
            <p:nvPr/>
          </p:nvGrpSpPr>
          <p:grpSpPr>
            <a:xfrm>
              <a:off x="4716360" y="1171440"/>
              <a:ext cx="4003920" cy="4534200"/>
              <a:chOff x="4716360" y="1171440"/>
              <a:chExt cx="4003920" cy="4534200"/>
            </a:xfrm>
          </p:grpSpPr>
          <p:sp>
            <p:nvSpPr>
              <p:cNvPr id="45" name=""/>
              <p:cNvSpPr/>
              <p:nvPr/>
            </p:nvSpPr>
            <p:spPr>
              <a:xfrm>
                <a:off x="4716360" y="5137200"/>
                <a:ext cx="3996000" cy="144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716360" y="4003560"/>
                <a:ext cx="3996000" cy="180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716360" y="4570560"/>
                <a:ext cx="3996000" cy="144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716360" y="1171440"/>
                <a:ext cx="4003920" cy="180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716360" y="1171440"/>
                <a:ext cx="1800" cy="453420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288040" y="1171440"/>
                <a:ext cx="1440" cy="453420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859360" y="1171440"/>
                <a:ext cx="1800" cy="453420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431040" y="1171440"/>
                <a:ext cx="1440" cy="453420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716360" y="5703840"/>
                <a:ext cx="4003920" cy="180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718480" y="1171440"/>
                <a:ext cx="1800" cy="453420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574040" y="1171440"/>
                <a:ext cx="1440" cy="453420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145360" y="1171440"/>
                <a:ext cx="1800" cy="453420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716360" y="1736640"/>
                <a:ext cx="3996000" cy="180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4716360" y="1171440"/>
                <a:ext cx="3995640" cy="4534200"/>
                <a:chOff x="4716360" y="1171440"/>
                <a:chExt cx="3995640" cy="453420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7002360" y="1171440"/>
                  <a:ext cx="1440" cy="4534200"/>
                </a:xfrm>
                <a:prstGeom prst="line">
                  <a:avLst/>
                </a:prstGeom>
                <a:ln w="12600">
                  <a:solidFill>
                    <a:srgbClr val="008f6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4716360" y="3436920"/>
                  <a:ext cx="3995640" cy="1440"/>
                </a:xfrm>
                <a:prstGeom prst="line">
                  <a:avLst/>
                </a:prstGeom>
                <a:ln w="12600">
                  <a:solidFill>
                    <a:srgbClr val="008f6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" name=""/>
              <p:cNvSpPr/>
              <p:nvPr/>
            </p:nvSpPr>
            <p:spPr>
              <a:xfrm>
                <a:off x="4716360" y="2303640"/>
                <a:ext cx="3996000" cy="144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716360" y="2870280"/>
                <a:ext cx="3996000" cy="144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4716360" y="1171440"/>
                <a:ext cx="3995640" cy="4534200"/>
                <a:chOff x="4716360" y="1171440"/>
                <a:chExt cx="3995640" cy="45342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7002360" y="1171440"/>
                  <a:ext cx="1440" cy="453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716360" y="3436920"/>
                  <a:ext cx="399564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" name=""/>
            <p:cNvGrpSpPr/>
            <p:nvPr/>
          </p:nvGrpSpPr>
          <p:grpSpPr>
            <a:xfrm>
              <a:off x="6685200" y="1066680"/>
              <a:ext cx="180720" cy="4763520"/>
              <a:chOff x="6685200" y="1066680"/>
              <a:chExt cx="180720" cy="4763520"/>
            </a:xfrm>
          </p:grpSpPr>
          <p:sp>
            <p:nvSpPr>
              <p:cNvPr id="67" name=""/>
              <p:cNvSpPr/>
              <p:nvPr/>
            </p:nvSpPr>
            <p:spPr>
              <a:xfrm>
                <a:off x="6685200" y="5616720"/>
                <a:ext cx="18072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774840" y="1066680"/>
                <a:ext cx="9072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774840" y="1628640"/>
                <a:ext cx="9072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774840" y="2200320"/>
                <a:ext cx="9072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774840" y="2771640"/>
                <a:ext cx="9072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685200" y="3927600"/>
                <a:ext cx="18072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85200" y="4486320"/>
                <a:ext cx="18072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685200" y="5057640"/>
                <a:ext cx="18072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4570560" y="3546360"/>
              <a:ext cx="4185720" cy="213480"/>
              <a:chOff x="4570560" y="3546360"/>
              <a:chExt cx="4185720" cy="213480"/>
            </a:xfrm>
          </p:grpSpPr>
          <p:sp>
            <p:nvSpPr>
              <p:cNvPr id="76" name=""/>
              <p:cNvSpPr/>
              <p:nvPr/>
            </p:nvSpPr>
            <p:spPr>
              <a:xfrm>
                <a:off x="7079400" y="3546360"/>
                <a:ext cx="9072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19320" y="3546360"/>
                <a:ext cx="9072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070120" y="3546360"/>
                <a:ext cx="9072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665560" y="3546360"/>
                <a:ext cx="9072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329520" y="3546360"/>
                <a:ext cx="18072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720040" y="3546360"/>
                <a:ext cx="18072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127840" y="3546360"/>
                <a:ext cx="18072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570560" y="3546360"/>
                <a:ext cx="18072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4716360" y="3375000"/>
              <a:ext cx="4000680" cy="127080"/>
              <a:chOff x="4716360" y="3375000"/>
              <a:chExt cx="4000680" cy="127080"/>
            </a:xfrm>
          </p:grpSpPr>
          <p:sp>
            <p:nvSpPr>
              <p:cNvPr id="85" name=""/>
              <p:cNvSpPr/>
              <p:nvPr/>
            </p:nvSpPr>
            <p:spPr>
              <a:xfrm>
                <a:off x="4716360" y="3375000"/>
                <a:ext cx="0" cy="12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284800" y="3375000"/>
                <a:ext cx="0" cy="12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59360" y="3375000"/>
                <a:ext cx="0" cy="12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431040" y="3375000"/>
                <a:ext cx="0" cy="12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574040" y="3375000"/>
                <a:ext cx="0" cy="12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145360" y="3375000"/>
                <a:ext cx="0" cy="12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717040" y="3375000"/>
                <a:ext cx="0" cy="12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6938640" y="1171440"/>
              <a:ext cx="127080" cy="4534200"/>
              <a:chOff x="6938640" y="1171440"/>
              <a:chExt cx="127080" cy="4534200"/>
            </a:xfrm>
          </p:grpSpPr>
          <p:sp>
            <p:nvSpPr>
              <p:cNvPr id="93" name=""/>
              <p:cNvSpPr/>
              <p:nvPr/>
            </p:nvSpPr>
            <p:spPr>
              <a:xfrm flipH="1">
                <a:off x="6938640" y="4000680"/>
                <a:ext cx="12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6938640" y="4572000"/>
                <a:ext cx="12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6938640" y="2867040"/>
                <a:ext cx="12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6938640" y="5133960"/>
                <a:ext cx="12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6938640" y="5705640"/>
                <a:ext cx="12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6938640" y="2301840"/>
                <a:ext cx="12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6938640" y="1733400"/>
                <a:ext cx="12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6938640" y="1171440"/>
                <a:ext cx="12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195120" y="192240"/>
            <a:ext cx="4522680" cy="459720"/>
            <a:chOff x="195120" y="192240"/>
            <a:chExt cx="4522680" cy="45972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5120" y="20304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346400" y="192240"/>
              <a:ext cx="33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TING A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E T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460520" y="6224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24360" y="446580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177040" y="1874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24760" y="1874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91240" y="25606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38960" y="240840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62640" y="263700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29480" y="286560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67360" y="362736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678880" y="1501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62440" y="37036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10160" y="400860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81560" y="408456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29280" y="41608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72080" y="43894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34040" y="286560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43880" y="225576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558280" y="156996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481960" y="156996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565520" y="1422360"/>
            <a:ext cx="4343400" cy="327672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514520" y="4356000"/>
            <a:ext cx="1419120" cy="1676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63600" y="1157400"/>
            <a:ext cx="2925720" cy="2133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22200" y="93600"/>
            <a:ext cx="5231520" cy="460440"/>
            <a:chOff x="322200" y="93600"/>
            <a:chExt cx="5231520" cy="460440"/>
          </a:xfrm>
        </p:grpSpPr>
        <p:sp>
          <p:nvSpPr>
            <p:cNvPr id="128" name=""/>
            <p:cNvSpPr/>
            <p:nvPr/>
          </p:nvSpPr>
          <p:spPr>
            <a:xfrm>
              <a:off x="1698480" y="130320"/>
              <a:ext cx="385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roximating a Best-Fitting L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322200" y="9360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"/>
          <p:cNvSpPr/>
          <p:nvPr/>
        </p:nvSpPr>
        <p:spPr>
          <a:xfrm>
            <a:off x="1752480" y="492120"/>
            <a:ext cx="70358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3600" y="647640"/>
            <a:ext cx="2349360" cy="419040"/>
          </a:xfrm>
          <a:prstGeom prst="rect">
            <a:avLst/>
          </a:prstGeom>
          <a:solidFill>
            <a:srgbClr val="008f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71240" y="652320"/>
            <a:ext cx="8304480" cy="5105520"/>
            <a:chOff x="471240" y="652320"/>
            <a:chExt cx="8304480" cy="5105520"/>
          </a:xfrm>
        </p:grpSpPr>
        <p:pic>
          <p:nvPicPr>
            <p:cNvPr id="133" name="" descr=""/>
            <p:cNvPicPr/>
            <p:nvPr/>
          </p:nvPicPr>
          <p:blipFill>
            <a:blip r:embed="rId4">
              <a:lum bright="60000"/>
            </a:blip>
            <a:srcRect l="-24753" t="-1338" r="-13251" b="0"/>
            <a:stretch/>
          </p:blipFill>
          <p:spPr>
            <a:xfrm>
              <a:off x="3665520" y="652320"/>
              <a:ext cx="511020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71240" y="660240"/>
              <a:ext cx="21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SCUS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ROW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522600" y="584280"/>
            <a:ext cx="5393880" cy="5716440"/>
            <a:chOff x="3522600" y="584280"/>
            <a:chExt cx="5393880" cy="5716440"/>
          </a:xfrm>
        </p:grpSpPr>
        <p:sp>
          <p:nvSpPr>
            <p:cNvPr id="136" name=""/>
            <p:cNvSpPr/>
            <p:nvPr/>
          </p:nvSpPr>
          <p:spPr>
            <a:xfrm>
              <a:off x="7343640" y="645840"/>
              <a:ext cx="1440" cy="51368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43240" y="2703240"/>
              <a:ext cx="4638600" cy="14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33880" y="5427360"/>
              <a:ext cx="4638600" cy="14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16400" y="650880"/>
              <a:ext cx="1440" cy="512712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72080" y="645840"/>
              <a:ext cx="1440" cy="51368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81400" y="6026040"/>
              <a:ext cx="4552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ears since 19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6200000">
              <a:off x="1154160" y="3033000"/>
              <a:ext cx="501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tance (f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47560" y="5859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91000" y="642600"/>
              <a:ext cx="1440" cy="51368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94960" y="5859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51360" y="642600"/>
              <a:ext cx="1440" cy="51368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18600" y="58593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8960" y="58593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28520" y="58593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21280" y="642600"/>
              <a:ext cx="1440" cy="51368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88880" y="58593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81640" y="642600"/>
              <a:ext cx="1440" cy="51368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9240" y="58593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30840" y="642600"/>
              <a:ext cx="1440" cy="51368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96640" y="58593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5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91200" y="642600"/>
              <a:ext cx="1440" cy="51368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58800" y="58593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19160" y="58593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7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99320" y="642600"/>
              <a:ext cx="1440" cy="51368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66560" y="58593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59680" y="642600"/>
              <a:ext cx="1440" cy="51368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26920" y="58593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21480" y="642600"/>
              <a:ext cx="1800" cy="51368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9080" y="58593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9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723880" y="585936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97720" y="572292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97720" y="538632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43240" y="5095800"/>
              <a:ext cx="4638600" cy="108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97720" y="503856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43240" y="4759200"/>
              <a:ext cx="4638600" cy="108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97720" y="470196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43240" y="4411440"/>
              <a:ext cx="4638600" cy="14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97720" y="435420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43240" y="4074840"/>
              <a:ext cx="4638600" cy="14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97720" y="401796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43240" y="3727440"/>
              <a:ext cx="4638600" cy="108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97720" y="367020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43240" y="3390840"/>
              <a:ext cx="4638600" cy="108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97720" y="333360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43240" y="3043080"/>
              <a:ext cx="4638600" cy="108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97720" y="298584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97720" y="264924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9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43240" y="2358720"/>
              <a:ext cx="4638600" cy="14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97720" y="230184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43240" y="2022480"/>
              <a:ext cx="4638600" cy="108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97720" y="196524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43240" y="1674720"/>
              <a:ext cx="4638600" cy="108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97720" y="161748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43240" y="1338120"/>
              <a:ext cx="4638600" cy="108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97720" y="128088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43240" y="990360"/>
              <a:ext cx="4638600" cy="14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97720" y="93312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97720" y="58428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91000" y="4597200"/>
              <a:ext cx="3816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78040" y="4586040"/>
              <a:ext cx="61920" cy="61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65600" y="4224240"/>
              <a:ext cx="3636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53000" y="4213080"/>
              <a:ext cx="61920" cy="61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25960" y="4174920"/>
              <a:ext cx="3636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13360" y="4162320"/>
              <a:ext cx="61920" cy="61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00560" y="4000320"/>
              <a:ext cx="3636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87960" y="3987720"/>
              <a:ext cx="61920" cy="630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73720" y="3876480"/>
              <a:ext cx="37800" cy="36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60760" y="3863880"/>
              <a:ext cx="63720" cy="61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560920" y="3627360"/>
              <a:ext cx="3636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48320" y="3614400"/>
              <a:ext cx="61920" cy="633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4080" y="3516120"/>
              <a:ext cx="37800" cy="36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22920" y="3503520"/>
              <a:ext cx="61920" cy="61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69040" y="3254040"/>
              <a:ext cx="3780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57880" y="3241440"/>
              <a:ext cx="61920" cy="633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56240" y="3004920"/>
              <a:ext cx="3636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640" y="2993760"/>
              <a:ext cx="61920" cy="61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30840" y="2855880"/>
              <a:ext cx="36720" cy="37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18240" y="2844720"/>
              <a:ext cx="61920" cy="61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04000" y="2546280"/>
              <a:ext cx="38160" cy="36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91040" y="2533320"/>
              <a:ext cx="63720" cy="61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91200" y="2333520"/>
              <a:ext cx="367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78600" y="2322360"/>
              <a:ext cx="61920" cy="61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164360" y="1911240"/>
              <a:ext cx="38160" cy="36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53200" y="1898640"/>
              <a:ext cx="61920" cy="61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38960" y="1960560"/>
              <a:ext cx="38160" cy="37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26360" y="1947600"/>
              <a:ext cx="61920" cy="633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26160" y="1600200"/>
              <a:ext cx="36720" cy="37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13560" y="1587240"/>
              <a:ext cx="61920" cy="61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99320" y="1699920"/>
              <a:ext cx="38160" cy="36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86720" y="1687320"/>
              <a:ext cx="63360" cy="61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73920" y="1712880"/>
              <a:ext cx="36360" cy="36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61320" y="1699920"/>
              <a:ext cx="61920" cy="61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59680" y="1463400"/>
              <a:ext cx="38160" cy="36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48520" y="1450800"/>
              <a:ext cx="61920" cy="61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34280" y="1873080"/>
              <a:ext cx="3816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221680" y="1861920"/>
              <a:ext cx="61920" cy="61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408880" y="1388880"/>
              <a:ext cx="36360" cy="36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96280" y="1376280"/>
              <a:ext cx="61920" cy="61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43240" y="1003320"/>
              <a:ext cx="4638600" cy="3742920"/>
            </a:xfrm>
            <a:custGeom>
              <a:avLst/>
              <a:gdLst/>
              <a:ahLst/>
              <a:rect l="l" t="t" r="r" b="b"/>
              <a:pathLst>
                <a:path w="2922" h="2358">
                  <a:moveTo>
                    <a:pt x="0" y="2358"/>
                  </a:moveTo>
                  <a:lnTo>
                    <a:pt x="31" y="2335"/>
                  </a:lnTo>
                  <a:lnTo>
                    <a:pt x="55" y="2311"/>
                  </a:lnTo>
                  <a:lnTo>
                    <a:pt x="86" y="2288"/>
                  </a:lnTo>
                  <a:lnTo>
                    <a:pt x="110" y="2264"/>
                  </a:lnTo>
                  <a:lnTo>
                    <a:pt x="141" y="2241"/>
                  </a:lnTo>
                  <a:lnTo>
                    <a:pt x="172" y="2217"/>
                  </a:lnTo>
                  <a:lnTo>
                    <a:pt x="196" y="2194"/>
                  </a:lnTo>
                  <a:lnTo>
                    <a:pt x="227" y="2170"/>
                  </a:lnTo>
                  <a:lnTo>
                    <a:pt x="251" y="2147"/>
                  </a:lnTo>
                  <a:lnTo>
                    <a:pt x="282" y="2131"/>
                  </a:lnTo>
                  <a:lnTo>
                    <a:pt x="305" y="2108"/>
                  </a:lnTo>
                  <a:lnTo>
                    <a:pt x="337" y="2084"/>
                  </a:lnTo>
                  <a:lnTo>
                    <a:pt x="368" y="2061"/>
                  </a:lnTo>
                  <a:lnTo>
                    <a:pt x="392" y="2037"/>
                  </a:lnTo>
                  <a:lnTo>
                    <a:pt x="423" y="2014"/>
                  </a:lnTo>
                  <a:lnTo>
                    <a:pt x="446" y="1990"/>
                  </a:lnTo>
                  <a:lnTo>
                    <a:pt x="478" y="1966"/>
                  </a:lnTo>
                  <a:lnTo>
                    <a:pt x="509" y="1943"/>
                  </a:lnTo>
                  <a:lnTo>
                    <a:pt x="533" y="1927"/>
                  </a:lnTo>
                  <a:lnTo>
                    <a:pt x="564" y="1904"/>
                  </a:lnTo>
                  <a:lnTo>
                    <a:pt x="587" y="1880"/>
                  </a:lnTo>
                  <a:lnTo>
                    <a:pt x="619" y="1857"/>
                  </a:lnTo>
                  <a:lnTo>
                    <a:pt x="642" y="1833"/>
                  </a:lnTo>
                  <a:lnTo>
                    <a:pt x="674" y="1810"/>
                  </a:lnTo>
                  <a:lnTo>
                    <a:pt x="705" y="1786"/>
                  </a:lnTo>
                  <a:lnTo>
                    <a:pt x="728" y="1763"/>
                  </a:lnTo>
                  <a:lnTo>
                    <a:pt x="760" y="1739"/>
                  </a:lnTo>
                  <a:lnTo>
                    <a:pt x="783" y="1724"/>
                  </a:lnTo>
                  <a:lnTo>
                    <a:pt x="815" y="1700"/>
                  </a:lnTo>
                  <a:lnTo>
                    <a:pt x="846" y="1677"/>
                  </a:lnTo>
                  <a:lnTo>
                    <a:pt x="869" y="1653"/>
                  </a:lnTo>
                  <a:lnTo>
                    <a:pt x="901" y="1630"/>
                  </a:lnTo>
                  <a:lnTo>
                    <a:pt x="924" y="1606"/>
                  </a:lnTo>
                  <a:lnTo>
                    <a:pt x="956" y="1583"/>
                  </a:lnTo>
                  <a:lnTo>
                    <a:pt x="987" y="1559"/>
                  </a:lnTo>
                  <a:lnTo>
                    <a:pt x="1010" y="1536"/>
                  </a:lnTo>
                  <a:lnTo>
                    <a:pt x="1042" y="1520"/>
                  </a:lnTo>
                  <a:lnTo>
                    <a:pt x="1065" y="1496"/>
                  </a:lnTo>
                  <a:lnTo>
                    <a:pt x="1097" y="1473"/>
                  </a:lnTo>
                  <a:lnTo>
                    <a:pt x="1120" y="1449"/>
                  </a:lnTo>
                  <a:lnTo>
                    <a:pt x="1151" y="1426"/>
                  </a:lnTo>
                  <a:lnTo>
                    <a:pt x="1183" y="1402"/>
                  </a:lnTo>
                  <a:lnTo>
                    <a:pt x="1206" y="1379"/>
                  </a:lnTo>
                  <a:lnTo>
                    <a:pt x="1238" y="1355"/>
                  </a:lnTo>
                  <a:lnTo>
                    <a:pt x="1261" y="1332"/>
                  </a:lnTo>
                  <a:lnTo>
                    <a:pt x="1292" y="1316"/>
                  </a:lnTo>
                  <a:lnTo>
                    <a:pt x="1324" y="1293"/>
                  </a:lnTo>
                  <a:lnTo>
                    <a:pt x="1347" y="1269"/>
                  </a:lnTo>
                  <a:lnTo>
                    <a:pt x="1379" y="1246"/>
                  </a:lnTo>
                  <a:lnTo>
                    <a:pt x="1402" y="1222"/>
                  </a:lnTo>
                  <a:lnTo>
                    <a:pt x="1434" y="1199"/>
                  </a:lnTo>
                  <a:lnTo>
                    <a:pt x="1465" y="1175"/>
                  </a:lnTo>
                  <a:lnTo>
                    <a:pt x="1488" y="1152"/>
                  </a:lnTo>
                  <a:lnTo>
                    <a:pt x="1520" y="1128"/>
                  </a:lnTo>
                  <a:lnTo>
                    <a:pt x="1543" y="1105"/>
                  </a:lnTo>
                  <a:lnTo>
                    <a:pt x="1575" y="1089"/>
                  </a:lnTo>
                  <a:lnTo>
                    <a:pt x="1598" y="1065"/>
                  </a:lnTo>
                  <a:lnTo>
                    <a:pt x="1629" y="1042"/>
                  </a:lnTo>
                  <a:lnTo>
                    <a:pt x="1661" y="1018"/>
                  </a:lnTo>
                  <a:lnTo>
                    <a:pt x="1684" y="995"/>
                  </a:lnTo>
                  <a:lnTo>
                    <a:pt x="1716" y="971"/>
                  </a:lnTo>
                  <a:lnTo>
                    <a:pt x="1739" y="948"/>
                  </a:lnTo>
                  <a:lnTo>
                    <a:pt x="1770" y="924"/>
                  </a:lnTo>
                  <a:lnTo>
                    <a:pt x="1802" y="901"/>
                  </a:lnTo>
                  <a:lnTo>
                    <a:pt x="1825" y="885"/>
                  </a:lnTo>
                  <a:lnTo>
                    <a:pt x="1857" y="862"/>
                  </a:lnTo>
                  <a:lnTo>
                    <a:pt x="1880" y="838"/>
                  </a:lnTo>
                  <a:lnTo>
                    <a:pt x="1911" y="815"/>
                  </a:lnTo>
                  <a:lnTo>
                    <a:pt x="1935" y="791"/>
                  </a:lnTo>
                  <a:lnTo>
                    <a:pt x="1966" y="768"/>
                  </a:lnTo>
                  <a:lnTo>
                    <a:pt x="1998" y="744"/>
                  </a:lnTo>
                  <a:lnTo>
                    <a:pt x="2021" y="721"/>
                  </a:lnTo>
                  <a:lnTo>
                    <a:pt x="2052" y="697"/>
                  </a:lnTo>
                  <a:lnTo>
                    <a:pt x="2076" y="681"/>
                  </a:lnTo>
                  <a:lnTo>
                    <a:pt x="2107" y="658"/>
                  </a:lnTo>
                  <a:lnTo>
                    <a:pt x="2139" y="634"/>
                  </a:lnTo>
                  <a:lnTo>
                    <a:pt x="2162" y="611"/>
                  </a:lnTo>
                  <a:lnTo>
                    <a:pt x="2193" y="587"/>
                  </a:lnTo>
                  <a:lnTo>
                    <a:pt x="2217" y="564"/>
                  </a:lnTo>
                  <a:lnTo>
                    <a:pt x="2248" y="540"/>
                  </a:lnTo>
                  <a:lnTo>
                    <a:pt x="2280" y="517"/>
                  </a:lnTo>
                  <a:lnTo>
                    <a:pt x="2303" y="493"/>
                  </a:lnTo>
                  <a:lnTo>
                    <a:pt x="2334" y="478"/>
                  </a:lnTo>
                  <a:lnTo>
                    <a:pt x="2358" y="454"/>
                  </a:lnTo>
                  <a:lnTo>
                    <a:pt x="2389" y="431"/>
                  </a:lnTo>
                  <a:lnTo>
                    <a:pt x="2413" y="407"/>
                  </a:lnTo>
                  <a:lnTo>
                    <a:pt x="2444" y="384"/>
                  </a:lnTo>
                  <a:lnTo>
                    <a:pt x="2475" y="360"/>
                  </a:lnTo>
                  <a:lnTo>
                    <a:pt x="2499" y="337"/>
                  </a:lnTo>
                  <a:lnTo>
                    <a:pt x="2530" y="313"/>
                  </a:lnTo>
                  <a:lnTo>
                    <a:pt x="2554" y="290"/>
                  </a:lnTo>
                  <a:lnTo>
                    <a:pt x="2585" y="274"/>
                  </a:lnTo>
                  <a:lnTo>
                    <a:pt x="2616" y="251"/>
                  </a:lnTo>
                  <a:lnTo>
                    <a:pt x="2640" y="227"/>
                  </a:lnTo>
                  <a:lnTo>
                    <a:pt x="2671" y="203"/>
                  </a:lnTo>
                  <a:lnTo>
                    <a:pt x="2695" y="180"/>
                  </a:lnTo>
                  <a:lnTo>
                    <a:pt x="2726" y="156"/>
                  </a:lnTo>
                  <a:lnTo>
                    <a:pt x="2750" y="133"/>
                  </a:lnTo>
                  <a:lnTo>
                    <a:pt x="2781" y="109"/>
                  </a:lnTo>
                  <a:lnTo>
                    <a:pt x="2812" y="86"/>
                  </a:lnTo>
                  <a:lnTo>
                    <a:pt x="2836" y="70"/>
                  </a:lnTo>
                  <a:lnTo>
                    <a:pt x="2867" y="47"/>
                  </a:lnTo>
                  <a:lnTo>
                    <a:pt x="2891" y="23"/>
                  </a:lnTo>
                  <a:lnTo>
                    <a:pt x="292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43240" y="642600"/>
              <a:ext cx="4638600" cy="513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888840" y="2496960"/>
            <a:ext cx="1710000" cy="31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124160" y="985320"/>
            <a:ext cx="4681800" cy="3776760"/>
          </a:xfrm>
          <a:prstGeom prst="line">
            <a:avLst/>
          </a:prstGeom>
          <a:ln w="76320">
            <a:solidFill>
              <a:srgbClr val="ffcc00"/>
            </a:solidFill>
            <a:prstDash val="dash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3600" y="3138480"/>
            <a:ext cx="2925720" cy="888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0720" y="3227400"/>
            <a:ext cx="264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an equation of your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3680" y="1233360"/>
            <a:ext cx="2895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inning Olympic discus throws from 1908 to 1996 are plotted 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raph. Approximate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-fitting l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these throw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rId5" action="ppaction://hlinksldjump"/>
          </p:cNvPr>
          <p:cNvSpPr/>
          <p:nvPr/>
        </p:nvSpPr>
        <p:spPr>
          <a:xfrm>
            <a:off x="7751880" y="6405480"/>
            <a:ext cx="1042920" cy="366840"/>
          </a:xfrm>
          <a:custGeom>
            <a:avLst/>
            <a:gdLst>
              <a:gd name="textAreaLeft" fmla="*/ 23760 w 1042920"/>
              <a:gd name="textAreaRight" fmla="*/ 1019160 w 1042920"/>
              <a:gd name="textAreaTop" fmla="*/ 23760 h 366840"/>
              <a:gd name="textAreaBottom" fmla="*/ 343080 h 366840"/>
            </a:gdLst>
            <a:ahLst/>
            <a:rect l="textAreaLeft" t="textAreaTop" r="textAreaRight" b="textAreaBottom"/>
            <a:pathLst>
              <a:path w="61369" h="21600">
                <a:moveTo>
                  <a:pt x="0" y="0"/>
                </a:moveTo>
                <a:lnTo>
                  <a:pt x="61369" y="0"/>
                </a:lnTo>
                <a:lnTo>
                  <a:pt x="61369" y="21600"/>
                </a:lnTo>
                <a:lnTo>
                  <a:pt x="0" y="21600"/>
                </a:lnTo>
                <a:close/>
              </a:path>
              <a:path fill="lightenLess" w="61369" h="21600">
                <a:moveTo>
                  <a:pt x="0" y="0"/>
                </a:moveTo>
                <a:lnTo>
                  <a:pt x="61369" y="0"/>
                </a:lnTo>
                <a:lnTo>
                  <a:pt x="59969" y="1400"/>
                </a:lnTo>
                <a:lnTo>
                  <a:pt x="1400" y="1400"/>
                </a:lnTo>
                <a:close/>
              </a:path>
              <a:path fill="darken" w="61369" h="21600">
                <a:moveTo>
                  <a:pt x="61369" y="0"/>
                </a:moveTo>
                <a:lnTo>
                  <a:pt x="61369" y="21600"/>
                </a:lnTo>
                <a:lnTo>
                  <a:pt x="59969" y="20200"/>
                </a:lnTo>
                <a:lnTo>
                  <a:pt x="59969" y="1400"/>
                </a:lnTo>
                <a:close/>
              </a:path>
              <a:path fill="darkenLess" w="61369" h="21600">
                <a:moveTo>
                  <a:pt x="61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969" y="20200"/>
                </a:lnTo>
                <a:close/>
              </a:path>
              <a:path fill="lighten" w="61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514520" y="4356000"/>
            <a:ext cx="1419120" cy="1676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12840" y="1168560"/>
            <a:ext cx="2916000" cy="163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22200" y="93600"/>
            <a:ext cx="5231520" cy="460440"/>
            <a:chOff x="322200" y="93600"/>
            <a:chExt cx="5231520" cy="460440"/>
          </a:xfrm>
        </p:grpSpPr>
        <p:sp>
          <p:nvSpPr>
            <p:cNvPr id="246" name=""/>
            <p:cNvSpPr/>
            <p:nvPr/>
          </p:nvSpPr>
          <p:spPr>
            <a:xfrm>
              <a:off x="1698480" y="130320"/>
              <a:ext cx="385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roximating a Best-Fitting L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322200" y="9360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8" name=""/>
          <p:cNvGrpSpPr/>
          <p:nvPr/>
        </p:nvGrpSpPr>
        <p:grpSpPr>
          <a:xfrm>
            <a:off x="3522600" y="584280"/>
            <a:ext cx="5393880" cy="5716440"/>
            <a:chOff x="3522600" y="584280"/>
            <a:chExt cx="5393880" cy="5716440"/>
          </a:xfrm>
        </p:grpSpPr>
        <p:sp>
          <p:nvSpPr>
            <p:cNvPr id="249" name=""/>
            <p:cNvSpPr/>
            <p:nvPr/>
          </p:nvSpPr>
          <p:spPr>
            <a:xfrm>
              <a:off x="7343640" y="645840"/>
              <a:ext cx="1440" cy="51368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43240" y="2703240"/>
              <a:ext cx="4638600" cy="14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880" y="5427360"/>
              <a:ext cx="4638600" cy="14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16400" y="650880"/>
              <a:ext cx="1440" cy="512712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72080" y="645840"/>
              <a:ext cx="1440" cy="51368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81400" y="6026040"/>
              <a:ext cx="4552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ears since 19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6200000">
              <a:off x="1154160" y="3033000"/>
              <a:ext cx="501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tance (f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47560" y="5859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91000" y="642600"/>
              <a:ext cx="1440" cy="51368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94960" y="5859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51360" y="642600"/>
              <a:ext cx="1440" cy="51368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18600" y="58593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78960" y="58593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528520" y="58593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21280" y="642600"/>
              <a:ext cx="1440" cy="51368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888880" y="58593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81640" y="642600"/>
              <a:ext cx="1440" cy="51368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49240" y="58593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30840" y="642600"/>
              <a:ext cx="1440" cy="51368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596640" y="58593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5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91200" y="642600"/>
              <a:ext cx="1440" cy="51368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958800" y="58593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19160" y="58593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7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99320" y="642600"/>
              <a:ext cx="1440" cy="51368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66560" y="58593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059680" y="642600"/>
              <a:ext cx="1440" cy="51368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26920" y="58593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421480" y="642600"/>
              <a:ext cx="1800" cy="51368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89080" y="58593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9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723880" y="585936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97720" y="572292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97720" y="538632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43240" y="5095800"/>
              <a:ext cx="4638600" cy="108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97720" y="503856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143240" y="4759200"/>
              <a:ext cx="4638600" cy="108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97720" y="470196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43240" y="4411440"/>
              <a:ext cx="4638600" cy="14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97720" y="435420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43240" y="4074840"/>
              <a:ext cx="4638600" cy="14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97720" y="401796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43240" y="3727440"/>
              <a:ext cx="4638600" cy="108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97720" y="367020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43240" y="3390840"/>
              <a:ext cx="4638600" cy="108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97720" y="333360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143240" y="3043080"/>
              <a:ext cx="4638600" cy="108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97720" y="298584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97720" y="264924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9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143240" y="2358720"/>
              <a:ext cx="4638600" cy="14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97720" y="230184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43240" y="2022480"/>
              <a:ext cx="4638600" cy="108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97720" y="196524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240" y="1674720"/>
              <a:ext cx="4638600" cy="108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97720" y="161748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43240" y="1338120"/>
              <a:ext cx="4638600" cy="108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97720" y="128088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43240" y="990360"/>
              <a:ext cx="4638600" cy="1440"/>
            </a:xfrm>
            <a:prstGeom prst="line">
              <a:avLst/>
            </a:prstGeom>
            <a:ln w="1260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97720" y="93312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97720" y="584280"/>
              <a:ext cx="1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91000" y="4597200"/>
              <a:ext cx="3816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78040" y="4586040"/>
              <a:ext cx="61920" cy="61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65600" y="4224240"/>
              <a:ext cx="3636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53000" y="4213080"/>
              <a:ext cx="61920" cy="61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25960" y="4174920"/>
              <a:ext cx="3636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013360" y="4162320"/>
              <a:ext cx="61920" cy="61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00560" y="4000320"/>
              <a:ext cx="3636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87960" y="3987720"/>
              <a:ext cx="61920" cy="630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373720" y="3876480"/>
              <a:ext cx="37800" cy="36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60760" y="3863880"/>
              <a:ext cx="63720" cy="61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60920" y="3627360"/>
              <a:ext cx="3636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48320" y="3614400"/>
              <a:ext cx="61920" cy="633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734080" y="3516120"/>
              <a:ext cx="37800" cy="36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22920" y="3503520"/>
              <a:ext cx="61920" cy="61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69040" y="3254040"/>
              <a:ext cx="3780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257880" y="3241440"/>
              <a:ext cx="61920" cy="633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56240" y="3004920"/>
              <a:ext cx="3636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43640" y="2993760"/>
              <a:ext cx="61920" cy="61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630840" y="2855880"/>
              <a:ext cx="36720" cy="37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18240" y="2844720"/>
              <a:ext cx="61920" cy="61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804000" y="2546280"/>
              <a:ext cx="38160" cy="36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91040" y="2533320"/>
              <a:ext cx="63720" cy="61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991200" y="2333520"/>
              <a:ext cx="367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78600" y="2322360"/>
              <a:ext cx="61920" cy="61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164360" y="1911240"/>
              <a:ext cx="38160" cy="36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153200" y="1898640"/>
              <a:ext cx="61920" cy="61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338960" y="1960560"/>
              <a:ext cx="38160" cy="37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26360" y="1947600"/>
              <a:ext cx="61920" cy="633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526160" y="1600200"/>
              <a:ext cx="36720" cy="37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13560" y="1587240"/>
              <a:ext cx="61920" cy="61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99320" y="1699920"/>
              <a:ext cx="38160" cy="36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86720" y="1687320"/>
              <a:ext cx="63360" cy="61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73920" y="1712880"/>
              <a:ext cx="36360" cy="36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61320" y="1699920"/>
              <a:ext cx="61920" cy="61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59680" y="1463400"/>
              <a:ext cx="38160" cy="36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8520" y="1450800"/>
              <a:ext cx="61920" cy="61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234280" y="1873080"/>
              <a:ext cx="3816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21680" y="1861920"/>
              <a:ext cx="61920" cy="61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08880" y="1388880"/>
              <a:ext cx="36360" cy="36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6280" y="1376280"/>
              <a:ext cx="61920" cy="61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43240" y="1003320"/>
              <a:ext cx="4638600" cy="3742920"/>
            </a:xfrm>
            <a:custGeom>
              <a:avLst/>
              <a:gdLst/>
              <a:ahLst/>
              <a:rect l="l" t="t" r="r" b="b"/>
              <a:pathLst>
                <a:path w="2922" h="2358">
                  <a:moveTo>
                    <a:pt x="0" y="2358"/>
                  </a:moveTo>
                  <a:lnTo>
                    <a:pt x="31" y="2335"/>
                  </a:lnTo>
                  <a:lnTo>
                    <a:pt x="55" y="2311"/>
                  </a:lnTo>
                  <a:lnTo>
                    <a:pt x="86" y="2288"/>
                  </a:lnTo>
                  <a:lnTo>
                    <a:pt x="110" y="2264"/>
                  </a:lnTo>
                  <a:lnTo>
                    <a:pt x="141" y="2241"/>
                  </a:lnTo>
                  <a:lnTo>
                    <a:pt x="172" y="2217"/>
                  </a:lnTo>
                  <a:lnTo>
                    <a:pt x="196" y="2194"/>
                  </a:lnTo>
                  <a:lnTo>
                    <a:pt x="227" y="2170"/>
                  </a:lnTo>
                  <a:lnTo>
                    <a:pt x="251" y="2147"/>
                  </a:lnTo>
                  <a:lnTo>
                    <a:pt x="282" y="2131"/>
                  </a:lnTo>
                  <a:lnTo>
                    <a:pt x="305" y="2108"/>
                  </a:lnTo>
                  <a:lnTo>
                    <a:pt x="337" y="2084"/>
                  </a:lnTo>
                  <a:lnTo>
                    <a:pt x="368" y="2061"/>
                  </a:lnTo>
                  <a:lnTo>
                    <a:pt x="392" y="2037"/>
                  </a:lnTo>
                  <a:lnTo>
                    <a:pt x="423" y="2014"/>
                  </a:lnTo>
                  <a:lnTo>
                    <a:pt x="446" y="1990"/>
                  </a:lnTo>
                  <a:lnTo>
                    <a:pt x="478" y="1966"/>
                  </a:lnTo>
                  <a:lnTo>
                    <a:pt x="509" y="1943"/>
                  </a:lnTo>
                  <a:lnTo>
                    <a:pt x="533" y="1927"/>
                  </a:lnTo>
                  <a:lnTo>
                    <a:pt x="564" y="1904"/>
                  </a:lnTo>
                  <a:lnTo>
                    <a:pt x="587" y="1880"/>
                  </a:lnTo>
                  <a:lnTo>
                    <a:pt x="619" y="1857"/>
                  </a:lnTo>
                  <a:lnTo>
                    <a:pt x="642" y="1833"/>
                  </a:lnTo>
                  <a:lnTo>
                    <a:pt x="674" y="1810"/>
                  </a:lnTo>
                  <a:lnTo>
                    <a:pt x="705" y="1786"/>
                  </a:lnTo>
                  <a:lnTo>
                    <a:pt x="728" y="1763"/>
                  </a:lnTo>
                  <a:lnTo>
                    <a:pt x="760" y="1739"/>
                  </a:lnTo>
                  <a:lnTo>
                    <a:pt x="783" y="1724"/>
                  </a:lnTo>
                  <a:lnTo>
                    <a:pt x="815" y="1700"/>
                  </a:lnTo>
                  <a:lnTo>
                    <a:pt x="846" y="1677"/>
                  </a:lnTo>
                  <a:lnTo>
                    <a:pt x="869" y="1653"/>
                  </a:lnTo>
                  <a:lnTo>
                    <a:pt x="901" y="1630"/>
                  </a:lnTo>
                  <a:lnTo>
                    <a:pt x="924" y="1606"/>
                  </a:lnTo>
                  <a:lnTo>
                    <a:pt x="956" y="1583"/>
                  </a:lnTo>
                  <a:lnTo>
                    <a:pt x="987" y="1559"/>
                  </a:lnTo>
                  <a:lnTo>
                    <a:pt x="1010" y="1536"/>
                  </a:lnTo>
                  <a:lnTo>
                    <a:pt x="1042" y="1520"/>
                  </a:lnTo>
                  <a:lnTo>
                    <a:pt x="1065" y="1496"/>
                  </a:lnTo>
                  <a:lnTo>
                    <a:pt x="1097" y="1473"/>
                  </a:lnTo>
                  <a:lnTo>
                    <a:pt x="1120" y="1449"/>
                  </a:lnTo>
                  <a:lnTo>
                    <a:pt x="1151" y="1426"/>
                  </a:lnTo>
                  <a:lnTo>
                    <a:pt x="1183" y="1402"/>
                  </a:lnTo>
                  <a:lnTo>
                    <a:pt x="1206" y="1379"/>
                  </a:lnTo>
                  <a:lnTo>
                    <a:pt x="1238" y="1355"/>
                  </a:lnTo>
                  <a:lnTo>
                    <a:pt x="1261" y="1332"/>
                  </a:lnTo>
                  <a:lnTo>
                    <a:pt x="1292" y="1316"/>
                  </a:lnTo>
                  <a:lnTo>
                    <a:pt x="1324" y="1293"/>
                  </a:lnTo>
                  <a:lnTo>
                    <a:pt x="1347" y="1269"/>
                  </a:lnTo>
                  <a:lnTo>
                    <a:pt x="1379" y="1246"/>
                  </a:lnTo>
                  <a:lnTo>
                    <a:pt x="1402" y="1222"/>
                  </a:lnTo>
                  <a:lnTo>
                    <a:pt x="1434" y="1199"/>
                  </a:lnTo>
                  <a:lnTo>
                    <a:pt x="1465" y="1175"/>
                  </a:lnTo>
                  <a:lnTo>
                    <a:pt x="1488" y="1152"/>
                  </a:lnTo>
                  <a:lnTo>
                    <a:pt x="1520" y="1128"/>
                  </a:lnTo>
                  <a:lnTo>
                    <a:pt x="1543" y="1105"/>
                  </a:lnTo>
                  <a:lnTo>
                    <a:pt x="1575" y="1089"/>
                  </a:lnTo>
                  <a:lnTo>
                    <a:pt x="1598" y="1065"/>
                  </a:lnTo>
                  <a:lnTo>
                    <a:pt x="1629" y="1042"/>
                  </a:lnTo>
                  <a:lnTo>
                    <a:pt x="1661" y="1018"/>
                  </a:lnTo>
                  <a:lnTo>
                    <a:pt x="1684" y="995"/>
                  </a:lnTo>
                  <a:lnTo>
                    <a:pt x="1716" y="971"/>
                  </a:lnTo>
                  <a:lnTo>
                    <a:pt x="1739" y="948"/>
                  </a:lnTo>
                  <a:lnTo>
                    <a:pt x="1770" y="924"/>
                  </a:lnTo>
                  <a:lnTo>
                    <a:pt x="1802" y="901"/>
                  </a:lnTo>
                  <a:lnTo>
                    <a:pt x="1825" y="885"/>
                  </a:lnTo>
                  <a:lnTo>
                    <a:pt x="1857" y="862"/>
                  </a:lnTo>
                  <a:lnTo>
                    <a:pt x="1880" y="838"/>
                  </a:lnTo>
                  <a:lnTo>
                    <a:pt x="1911" y="815"/>
                  </a:lnTo>
                  <a:lnTo>
                    <a:pt x="1935" y="791"/>
                  </a:lnTo>
                  <a:lnTo>
                    <a:pt x="1966" y="768"/>
                  </a:lnTo>
                  <a:lnTo>
                    <a:pt x="1998" y="744"/>
                  </a:lnTo>
                  <a:lnTo>
                    <a:pt x="2021" y="721"/>
                  </a:lnTo>
                  <a:lnTo>
                    <a:pt x="2052" y="697"/>
                  </a:lnTo>
                  <a:lnTo>
                    <a:pt x="2076" y="681"/>
                  </a:lnTo>
                  <a:lnTo>
                    <a:pt x="2107" y="658"/>
                  </a:lnTo>
                  <a:lnTo>
                    <a:pt x="2139" y="634"/>
                  </a:lnTo>
                  <a:lnTo>
                    <a:pt x="2162" y="611"/>
                  </a:lnTo>
                  <a:lnTo>
                    <a:pt x="2193" y="587"/>
                  </a:lnTo>
                  <a:lnTo>
                    <a:pt x="2217" y="564"/>
                  </a:lnTo>
                  <a:lnTo>
                    <a:pt x="2248" y="540"/>
                  </a:lnTo>
                  <a:lnTo>
                    <a:pt x="2280" y="517"/>
                  </a:lnTo>
                  <a:lnTo>
                    <a:pt x="2303" y="493"/>
                  </a:lnTo>
                  <a:lnTo>
                    <a:pt x="2334" y="478"/>
                  </a:lnTo>
                  <a:lnTo>
                    <a:pt x="2358" y="454"/>
                  </a:lnTo>
                  <a:lnTo>
                    <a:pt x="2389" y="431"/>
                  </a:lnTo>
                  <a:lnTo>
                    <a:pt x="2413" y="407"/>
                  </a:lnTo>
                  <a:lnTo>
                    <a:pt x="2444" y="384"/>
                  </a:lnTo>
                  <a:lnTo>
                    <a:pt x="2475" y="360"/>
                  </a:lnTo>
                  <a:lnTo>
                    <a:pt x="2499" y="337"/>
                  </a:lnTo>
                  <a:lnTo>
                    <a:pt x="2530" y="313"/>
                  </a:lnTo>
                  <a:lnTo>
                    <a:pt x="2554" y="290"/>
                  </a:lnTo>
                  <a:lnTo>
                    <a:pt x="2585" y="274"/>
                  </a:lnTo>
                  <a:lnTo>
                    <a:pt x="2616" y="251"/>
                  </a:lnTo>
                  <a:lnTo>
                    <a:pt x="2640" y="227"/>
                  </a:lnTo>
                  <a:lnTo>
                    <a:pt x="2671" y="203"/>
                  </a:lnTo>
                  <a:lnTo>
                    <a:pt x="2695" y="180"/>
                  </a:lnTo>
                  <a:lnTo>
                    <a:pt x="2726" y="156"/>
                  </a:lnTo>
                  <a:lnTo>
                    <a:pt x="2750" y="133"/>
                  </a:lnTo>
                  <a:lnTo>
                    <a:pt x="2781" y="109"/>
                  </a:lnTo>
                  <a:lnTo>
                    <a:pt x="2812" y="86"/>
                  </a:lnTo>
                  <a:lnTo>
                    <a:pt x="2836" y="70"/>
                  </a:lnTo>
                  <a:lnTo>
                    <a:pt x="2867" y="47"/>
                  </a:lnTo>
                  <a:lnTo>
                    <a:pt x="2891" y="23"/>
                  </a:lnTo>
                  <a:lnTo>
                    <a:pt x="292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43240" y="642600"/>
              <a:ext cx="4638600" cy="513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752480" y="492120"/>
            <a:ext cx="70358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6080" y="638280"/>
            <a:ext cx="1584000" cy="444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9680" y="652320"/>
            <a:ext cx="15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09680" y="1244520"/>
            <a:ext cx="2654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two points that li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 the best-fitting l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ch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, 13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6, 23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840" y="2806560"/>
            <a:ext cx="2916000" cy="876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9680" y="2857680"/>
            <a:ext cx="279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the slope of the line through thes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08680" y="888840"/>
            <a:ext cx="7997040" cy="1737720"/>
            <a:chOff x="508680" y="888840"/>
            <a:chExt cx="7997040" cy="1737720"/>
          </a:xfrm>
        </p:grpSpPr>
        <p:grpSp>
          <p:nvGrpSpPr>
            <p:cNvPr id="356" name=""/>
            <p:cNvGrpSpPr/>
            <p:nvPr/>
          </p:nvGrpSpPr>
          <p:grpSpPr>
            <a:xfrm>
              <a:off x="8277120" y="1235160"/>
              <a:ext cx="228600" cy="228600"/>
              <a:chOff x="8277120" y="1235160"/>
              <a:chExt cx="228600" cy="228600"/>
            </a:xfrm>
          </p:grpSpPr>
          <p:sp>
            <p:nvSpPr>
              <p:cNvPr id="357" name=""/>
              <p:cNvSpPr/>
              <p:nvPr/>
            </p:nvSpPr>
            <p:spPr>
              <a:xfrm>
                <a:off x="8277120" y="1235160"/>
                <a:ext cx="228600" cy="22860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349840" y="12988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08680" y="2260440"/>
              <a:ext cx="1049760" cy="366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6, 23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6807240" y="888840"/>
              <a:ext cx="1104840" cy="419040"/>
              <a:chOff x="6807240" y="888840"/>
              <a:chExt cx="1104840" cy="419040"/>
            </a:xfrm>
          </p:grpSpPr>
          <p:sp>
            <p:nvSpPr>
              <p:cNvPr id="361" name=""/>
              <p:cNvSpPr/>
              <p:nvPr/>
            </p:nvSpPr>
            <p:spPr>
              <a:xfrm>
                <a:off x="6807240" y="888840"/>
                <a:ext cx="1104840" cy="419040"/>
              </a:xfrm>
              <a:prstGeom prst="wedgeRectCallout">
                <a:avLst>
                  <a:gd name="adj1" fmla="val 89800"/>
                  <a:gd name="adj2" fmla="val 46212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908760" y="939600"/>
                <a:ext cx="9270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96, 230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3" name=""/>
          <p:cNvGrpSpPr/>
          <p:nvPr/>
        </p:nvGrpSpPr>
        <p:grpSpPr>
          <a:xfrm>
            <a:off x="1296720" y="1898640"/>
            <a:ext cx="4659480" cy="3054240"/>
            <a:chOff x="1296720" y="1898640"/>
            <a:chExt cx="4659480" cy="3054240"/>
          </a:xfrm>
        </p:grpSpPr>
        <p:grpSp>
          <p:nvGrpSpPr>
            <p:cNvPr id="364" name=""/>
            <p:cNvGrpSpPr/>
            <p:nvPr/>
          </p:nvGrpSpPr>
          <p:grpSpPr>
            <a:xfrm>
              <a:off x="4387680" y="4351320"/>
              <a:ext cx="227160" cy="228600"/>
              <a:chOff x="4387680" y="4351320"/>
              <a:chExt cx="227160" cy="228600"/>
            </a:xfrm>
          </p:grpSpPr>
          <p:sp>
            <p:nvSpPr>
              <p:cNvPr id="365" name=""/>
              <p:cNvSpPr/>
              <p:nvPr/>
            </p:nvSpPr>
            <p:spPr>
              <a:xfrm>
                <a:off x="4387680" y="4351320"/>
                <a:ext cx="227160" cy="22860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459680" y="441504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1296720" y="1898640"/>
              <a:ext cx="845280" cy="366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, 138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4851360" y="4533840"/>
              <a:ext cx="1104840" cy="419040"/>
              <a:chOff x="4851360" y="4533840"/>
              <a:chExt cx="1104840" cy="419040"/>
            </a:xfrm>
          </p:grpSpPr>
          <p:sp>
            <p:nvSpPr>
              <p:cNvPr id="369" name=""/>
              <p:cNvSpPr/>
              <p:nvPr/>
            </p:nvSpPr>
            <p:spPr>
              <a:xfrm>
                <a:off x="4851360" y="4533840"/>
                <a:ext cx="1104840" cy="419040"/>
              </a:xfrm>
              <a:prstGeom prst="wedgeRectCallout">
                <a:avLst>
                  <a:gd name="adj1" fmla="val -80314"/>
                  <a:gd name="adj2" fmla="val -6590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952880" y="4584600"/>
                <a:ext cx="92736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8, 138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1007280" y="2747880"/>
            <a:ext cx="1777320" cy="604800"/>
            <a:chOff x="1007280" y="2747880"/>
            <a:chExt cx="1777320" cy="604800"/>
          </a:xfrm>
        </p:grpSpPr>
        <p:grpSp>
          <p:nvGrpSpPr>
            <p:cNvPr id="372" name=""/>
            <p:cNvGrpSpPr/>
            <p:nvPr/>
          </p:nvGrpSpPr>
          <p:grpSpPr>
            <a:xfrm>
              <a:off x="1007280" y="2747880"/>
              <a:ext cx="1777320" cy="585000"/>
              <a:chOff x="1007280" y="2747880"/>
              <a:chExt cx="1777320" cy="58500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1007280" y="2747880"/>
                <a:ext cx="749880" cy="585000"/>
                <a:chOff x="1007280" y="2747880"/>
                <a:chExt cx="749880" cy="5850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1372680" y="2747880"/>
                  <a:ext cx="305640" cy="58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8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299960" y="3016080"/>
                  <a:ext cx="457200" cy="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007280" y="2852640"/>
                  <a:ext cx="172800" cy="32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7" name=""/>
              <p:cNvSpPr/>
              <p:nvPr/>
            </p:nvSpPr>
            <p:spPr>
              <a:xfrm>
                <a:off x="1869480" y="2855880"/>
                <a:ext cx="91512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f6c"/>
                    </a:solidFill>
                    <a:latin typeface="Times New Roman"/>
                  </a:rPr>
                  <a:t>     </a:t>
                </a:r>
                <a:r>
                  <a:rPr b="0" lang="en-US" sz="2400" spc="-1" strike="noStrike">
                    <a:solidFill>
                      <a:srgbClr val="006f6c"/>
                    </a:solidFill>
                    <a:latin typeface="Times New Roman"/>
                  </a:rPr>
                  <a:t>1.0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78" name="" descr=""/>
            <p:cNvPicPr/>
            <p:nvPr/>
          </p:nvPicPr>
          <p:blipFill>
            <a:blip r:embed="rId1"/>
            <a:stretch/>
          </p:blipFill>
          <p:spPr>
            <a:xfrm>
              <a:off x="1884240" y="2752560"/>
              <a:ext cx="254160" cy="600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80" name=""/>
          <p:cNvGrpSpPr/>
          <p:nvPr/>
        </p:nvGrpSpPr>
        <p:grpSpPr>
          <a:xfrm>
            <a:off x="3522600" y="584280"/>
            <a:ext cx="5393880" cy="5716440"/>
            <a:chOff x="3522600" y="584280"/>
            <a:chExt cx="5393880" cy="5716440"/>
          </a:xfrm>
        </p:grpSpPr>
        <p:grpSp>
          <p:nvGrpSpPr>
            <p:cNvPr id="381" name=""/>
            <p:cNvGrpSpPr/>
            <p:nvPr/>
          </p:nvGrpSpPr>
          <p:grpSpPr>
            <a:xfrm>
              <a:off x="3522600" y="584280"/>
              <a:ext cx="5393880" cy="5716440"/>
              <a:chOff x="3522600" y="584280"/>
              <a:chExt cx="5393880" cy="5716440"/>
            </a:xfrm>
          </p:grpSpPr>
          <p:sp>
            <p:nvSpPr>
              <p:cNvPr id="382" name=""/>
              <p:cNvSpPr/>
              <p:nvPr/>
            </p:nvSpPr>
            <p:spPr>
              <a:xfrm>
                <a:off x="7343640" y="645840"/>
                <a:ext cx="1440" cy="513684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143240" y="2703240"/>
                <a:ext cx="4638600" cy="144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133880" y="5427360"/>
                <a:ext cx="4638600" cy="144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216400" y="650880"/>
                <a:ext cx="1440" cy="512712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572080" y="645840"/>
                <a:ext cx="1440" cy="513684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81400" y="6026040"/>
                <a:ext cx="4552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ears since 19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6200000">
                <a:off x="1154160" y="3033000"/>
                <a:ext cx="5011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tance (f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147560" y="58593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491000" y="642600"/>
                <a:ext cx="1440" cy="513684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494960" y="58593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51360" y="642600"/>
                <a:ext cx="1440" cy="513684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18600" y="585936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178960" y="585936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528520" y="585936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3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921280" y="642600"/>
                <a:ext cx="1440" cy="513684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888880" y="585936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4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281640" y="642600"/>
                <a:ext cx="1440" cy="513684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249240" y="585936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4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630840" y="642600"/>
                <a:ext cx="1440" cy="513684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596640" y="585936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991200" y="642600"/>
                <a:ext cx="1440" cy="513684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958800" y="585936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6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319160" y="585936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699320" y="642600"/>
                <a:ext cx="1440" cy="513684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666560" y="585936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8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059680" y="642600"/>
                <a:ext cx="1440" cy="513684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026920" y="585936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8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421480" y="642600"/>
                <a:ext cx="1800" cy="513684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389080" y="585936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723880" y="5859360"/>
                <a:ext cx="19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897720" y="5722920"/>
                <a:ext cx="19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897720" y="5386320"/>
                <a:ext cx="19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143240" y="5095800"/>
                <a:ext cx="4638600" cy="108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897720" y="5038560"/>
                <a:ext cx="19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143240" y="4759200"/>
                <a:ext cx="4638600" cy="108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897720" y="4701960"/>
                <a:ext cx="19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3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143240" y="4411440"/>
                <a:ext cx="4638600" cy="144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897720" y="4354200"/>
                <a:ext cx="19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143240" y="4074840"/>
                <a:ext cx="4638600" cy="144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897720" y="4017960"/>
                <a:ext cx="19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5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143240" y="3727440"/>
                <a:ext cx="4638600" cy="108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897720" y="3670200"/>
                <a:ext cx="19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6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143240" y="3390840"/>
                <a:ext cx="4638600" cy="108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897720" y="3333600"/>
                <a:ext cx="19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7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143240" y="3043080"/>
                <a:ext cx="4638600" cy="108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897720" y="2985840"/>
                <a:ext cx="19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8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897720" y="2649240"/>
                <a:ext cx="19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9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143240" y="2358720"/>
                <a:ext cx="4638600" cy="144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897720" y="2301840"/>
                <a:ext cx="19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143240" y="2022480"/>
                <a:ext cx="4638600" cy="108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897720" y="1965240"/>
                <a:ext cx="19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143240" y="1674720"/>
                <a:ext cx="4638600" cy="108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97720" y="1617480"/>
                <a:ext cx="19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143240" y="1338120"/>
                <a:ext cx="4638600" cy="108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897720" y="1280880"/>
                <a:ext cx="19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3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143240" y="990360"/>
                <a:ext cx="4638600" cy="1440"/>
              </a:xfrm>
              <a:prstGeom prst="line">
                <a:avLst/>
              </a:prstGeom>
              <a:ln w="1260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897720" y="933120"/>
                <a:ext cx="19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4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897720" y="584280"/>
                <a:ext cx="19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5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491000" y="4597200"/>
                <a:ext cx="3816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478040" y="4586040"/>
                <a:ext cx="61920" cy="6156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665600" y="4224240"/>
                <a:ext cx="3636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653000" y="4213080"/>
                <a:ext cx="61920" cy="6156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025960" y="4174920"/>
                <a:ext cx="3636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013360" y="4162320"/>
                <a:ext cx="61920" cy="6156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200560" y="4000320"/>
                <a:ext cx="3636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187960" y="3987720"/>
                <a:ext cx="61920" cy="6300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373720" y="3876480"/>
                <a:ext cx="37800" cy="36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360760" y="3863880"/>
                <a:ext cx="63720" cy="6156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560920" y="3627360"/>
                <a:ext cx="3636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48320" y="3614400"/>
                <a:ext cx="61920" cy="6336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734080" y="3516120"/>
                <a:ext cx="37800" cy="36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722920" y="3503520"/>
                <a:ext cx="61920" cy="6156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69040" y="3254040"/>
                <a:ext cx="3780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257880" y="3241440"/>
                <a:ext cx="61920" cy="6336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56240" y="3004920"/>
                <a:ext cx="3636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443640" y="2993760"/>
                <a:ext cx="61920" cy="6156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630840" y="2855880"/>
                <a:ext cx="36720" cy="37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618240" y="2844720"/>
                <a:ext cx="61920" cy="6156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804000" y="2546280"/>
                <a:ext cx="38160" cy="36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791040" y="2533320"/>
                <a:ext cx="63720" cy="6156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991200" y="2333520"/>
                <a:ext cx="3672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978600" y="2322360"/>
                <a:ext cx="61920" cy="6156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164360" y="1911240"/>
                <a:ext cx="38160" cy="36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153200" y="1898640"/>
                <a:ext cx="61920" cy="6156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338960" y="1960560"/>
                <a:ext cx="38160" cy="37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326360" y="1947600"/>
                <a:ext cx="61920" cy="6336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526160" y="1600200"/>
                <a:ext cx="36720" cy="37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513560" y="1587240"/>
                <a:ext cx="61920" cy="6156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699320" y="1699920"/>
                <a:ext cx="38160" cy="36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686720" y="1687320"/>
                <a:ext cx="63360" cy="6156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873920" y="1712880"/>
                <a:ext cx="36360" cy="36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61320" y="1699920"/>
                <a:ext cx="61920" cy="6156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059680" y="1463400"/>
                <a:ext cx="38160" cy="36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048520" y="1450800"/>
                <a:ext cx="61920" cy="6156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234280" y="1873080"/>
                <a:ext cx="3816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221680" y="1861920"/>
                <a:ext cx="61920" cy="6156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408880" y="1388880"/>
                <a:ext cx="36360" cy="36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396280" y="1376280"/>
                <a:ext cx="61920" cy="6156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143240" y="1003320"/>
                <a:ext cx="4638600" cy="3742920"/>
              </a:xfrm>
              <a:custGeom>
                <a:avLst/>
                <a:gdLst/>
                <a:ahLst/>
                <a:rect l="l" t="t" r="r" b="b"/>
                <a:pathLst>
                  <a:path w="2922" h="2358">
                    <a:moveTo>
                      <a:pt x="0" y="2358"/>
                    </a:moveTo>
                    <a:lnTo>
                      <a:pt x="31" y="2335"/>
                    </a:lnTo>
                    <a:lnTo>
                      <a:pt x="55" y="2311"/>
                    </a:lnTo>
                    <a:lnTo>
                      <a:pt x="86" y="2288"/>
                    </a:lnTo>
                    <a:lnTo>
                      <a:pt x="110" y="2264"/>
                    </a:lnTo>
                    <a:lnTo>
                      <a:pt x="141" y="2241"/>
                    </a:lnTo>
                    <a:lnTo>
                      <a:pt x="172" y="2217"/>
                    </a:lnTo>
                    <a:lnTo>
                      <a:pt x="196" y="2194"/>
                    </a:lnTo>
                    <a:lnTo>
                      <a:pt x="227" y="2170"/>
                    </a:lnTo>
                    <a:lnTo>
                      <a:pt x="251" y="2147"/>
                    </a:lnTo>
                    <a:lnTo>
                      <a:pt x="282" y="2131"/>
                    </a:lnTo>
                    <a:lnTo>
                      <a:pt x="305" y="2108"/>
                    </a:lnTo>
                    <a:lnTo>
                      <a:pt x="337" y="2084"/>
                    </a:lnTo>
                    <a:lnTo>
                      <a:pt x="368" y="2061"/>
                    </a:lnTo>
                    <a:lnTo>
                      <a:pt x="392" y="2037"/>
                    </a:lnTo>
                    <a:lnTo>
                      <a:pt x="423" y="2014"/>
                    </a:lnTo>
                    <a:lnTo>
                      <a:pt x="446" y="1990"/>
                    </a:lnTo>
                    <a:lnTo>
                      <a:pt x="478" y="1966"/>
                    </a:lnTo>
                    <a:lnTo>
                      <a:pt x="509" y="1943"/>
                    </a:lnTo>
                    <a:lnTo>
                      <a:pt x="533" y="1927"/>
                    </a:lnTo>
                    <a:lnTo>
                      <a:pt x="564" y="1904"/>
                    </a:lnTo>
                    <a:lnTo>
                      <a:pt x="587" y="1880"/>
                    </a:lnTo>
                    <a:lnTo>
                      <a:pt x="619" y="1857"/>
                    </a:lnTo>
                    <a:lnTo>
                      <a:pt x="642" y="1833"/>
                    </a:lnTo>
                    <a:lnTo>
                      <a:pt x="674" y="1810"/>
                    </a:lnTo>
                    <a:lnTo>
                      <a:pt x="705" y="1786"/>
                    </a:lnTo>
                    <a:lnTo>
                      <a:pt x="728" y="1763"/>
                    </a:lnTo>
                    <a:lnTo>
                      <a:pt x="760" y="1739"/>
                    </a:lnTo>
                    <a:lnTo>
                      <a:pt x="783" y="1724"/>
                    </a:lnTo>
                    <a:lnTo>
                      <a:pt x="815" y="1700"/>
                    </a:lnTo>
                    <a:lnTo>
                      <a:pt x="846" y="1677"/>
                    </a:lnTo>
                    <a:lnTo>
                      <a:pt x="869" y="1653"/>
                    </a:lnTo>
                    <a:lnTo>
                      <a:pt x="901" y="1630"/>
                    </a:lnTo>
                    <a:lnTo>
                      <a:pt x="924" y="1606"/>
                    </a:lnTo>
                    <a:lnTo>
                      <a:pt x="956" y="1583"/>
                    </a:lnTo>
                    <a:lnTo>
                      <a:pt x="987" y="1559"/>
                    </a:lnTo>
                    <a:lnTo>
                      <a:pt x="1010" y="1536"/>
                    </a:lnTo>
                    <a:lnTo>
                      <a:pt x="1042" y="1520"/>
                    </a:lnTo>
                    <a:lnTo>
                      <a:pt x="1065" y="1496"/>
                    </a:lnTo>
                    <a:lnTo>
                      <a:pt x="1097" y="1473"/>
                    </a:lnTo>
                    <a:lnTo>
                      <a:pt x="1120" y="1449"/>
                    </a:lnTo>
                    <a:lnTo>
                      <a:pt x="1151" y="1426"/>
                    </a:lnTo>
                    <a:lnTo>
                      <a:pt x="1183" y="1402"/>
                    </a:lnTo>
                    <a:lnTo>
                      <a:pt x="1206" y="1379"/>
                    </a:lnTo>
                    <a:lnTo>
                      <a:pt x="1238" y="1355"/>
                    </a:lnTo>
                    <a:lnTo>
                      <a:pt x="1261" y="1332"/>
                    </a:lnTo>
                    <a:lnTo>
                      <a:pt x="1292" y="1316"/>
                    </a:lnTo>
                    <a:lnTo>
                      <a:pt x="1324" y="1293"/>
                    </a:lnTo>
                    <a:lnTo>
                      <a:pt x="1347" y="1269"/>
                    </a:lnTo>
                    <a:lnTo>
                      <a:pt x="1379" y="1246"/>
                    </a:lnTo>
                    <a:lnTo>
                      <a:pt x="1402" y="1222"/>
                    </a:lnTo>
                    <a:lnTo>
                      <a:pt x="1434" y="1199"/>
                    </a:lnTo>
                    <a:lnTo>
                      <a:pt x="1465" y="1175"/>
                    </a:lnTo>
                    <a:lnTo>
                      <a:pt x="1488" y="1152"/>
                    </a:lnTo>
                    <a:lnTo>
                      <a:pt x="1520" y="1128"/>
                    </a:lnTo>
                    <a:lnTo>
                      <a:pt x="1543" y="1105"/>
                    </a:lnTo>
                    <a:lnTo>
                      <a:pt x="1575" y="1089"/>
                    </a:lnTo>
                    <a:lnTo>
                      <a:pt x="1598" y="1065"/>
                    </a:lnTo>
                    <a:lnTo>
                      <a:pt x="1629" y="1042"/>
                    </a:lnTo>
                    <a:lnTo>
                      <a:pt x="1661" y="1018"/>
                    </a:lnTo>
                    <a:lnTo>
                      <a:pt x="1684" y="995"/>
                    </a:lnTo>
                    <a:lnTo>
                      <a:pt x="1716" y="971"/>
                    </a:lnTo>
                    <a:lnTo>
                      <a:pt x="1739" y="948"/>
                    </a:lnTo>
                    <a:lnTo>
                      <a:pt x="1770" y="924"/>
                    </a:lnTo>
                    <a:lnTo>
                      <a:pt x="1802" y="901"/>
                    </a:lnTo>
                    <a:lnTo>
                      <a:pt x="1825" y="885"/>
                    </a:lnTo>
                    <a:lnTo>
                      <a:pt x="1857" y="862"/>
                    </a:lnTo>
                    <a:lnTo>
                      <a:pt x="1880" y="838"/>
                    </a:lnTo>
                    <a:lnTo>
                      <a:pt x="1911" y="815"/>
                    </a:lnTo>
                    <a:lnTo>
                      <a:pt x="1935" y="791"/>
                    </a:lnTo>
                    <a:lnTo>
                      <a:pt x="1966" y="768"/>
                    </a:lnTo>
                    <a:lnTo>
                      <a:pt x="1998" y="744"/>
                    </a:lnTo>
                    <a:lnTo>
                      <a:pt x="2021" y="721"/>
                    </a:lnTo>
                    <a:lnTo>
                      <a:pt x="2052" y="697"/>
                    </a:lnTo>
                    <a:lnTo>
                      <a:pt x="2076" y="681"/>
                    </a:lnTo>
                    <a:lnTo>
                      <a:pt x="2107" y="658"/>
                    </a:lnTo>
                    <a:lnTo>
                      <a:pt x="2139" y="634"/>
                    </a:lnTo>
                    <a:lnTo>
                      <a:pt x="2162" y="611"/>
                    </a:lnTo>
                    <a:lnTo>
                      <a:pt x="2193" y="587"/>
                    </a:lnTo>
                    <a:lnTo>
                      <a:pt x="2217" y="564"/>
                    </a:lnTo>
                    <a:lnTo>
                      <a:pt x="2248" y="540"/>
                    </a:lnTo>
                    <a:lnTo>
                      <a:pt x="2280" y="517"/>
                    </a:lnTo>
                    <a:lnTo>
                      <a:pt x="2303" y="493"/>
                    </a:lnTo>
                    <a:lnTo>
                      <a:pt x="2334" y="478"/>
                    </a:lnTo>
                    <a:lnTo>
                      <a:pt x="2358" y="454"/>
                    </a:lnTo>
                    <a:lnTo>
                      <a:pt x="2389" y="431"/>
                    </a:lnTo>
                    <a:lnTo>
                      <a:pt x="2413" y="407"/>
                    </a:lnTo>
                    <a:lnTo>
                      <a:pt x="2444" y="384"/>
                    </a:lnTo>
                    <a:lnTo>
                      <a:pt x="2475" y="360"/>
                    </a:lnTo>
                    <a:lnTo>
                      <a:pt x="2499" y="337"/>
                    </a:lnTo>
                    <a:lnTo>
                      <a:pt x="2530" y="313"/>
                    </a:lnTo>
                    <a:lnTo>
                      <a:pt x="2554" y="290"/>
                    </a:lnTo>
                    <a:lnTo>
                      <a:pt x="2585" y="274"/>
                    </a:lnTo>
                    <a:lnTo>
                      <a:pt x="2616" y="251"/>
                    </a:lnTo>
                    <a:lnTo>
                      <a:pt x="2640" y="227"/>
                    </a:lnTo>
                    <a:lnTo>
                      <a:pt x="2671" y="203"/>
                    </a:lnTo>
                    <a:lnTo>
                      <a:pt x="2695" y="180"/>
                    </a:lnTo>
                    <a:lnTo>
                      <a:pt x="2726" y="156"/>
                    </a:lnTo>
                    <a:lnTo>
                      <a:pt x="2750" y="133"/>
                    </a:lnTo>
                    <a:lnTo>
                      <a:pt x="2781" y="109"/>
                    </a:lnTo>
                    <a:lnTo>
                      <a:pt x="2812" y="86"/>
                    </a:lnTo>
                    <a:lnTo>
                      <a:pt x="2836" y="70"/>
                    </a:lnTo>
                    <a:lnTo>
                      <a:pt x="2867" y="47"/>
                    </a:lnTo>
                    <a:lnTo>
                      <a:pt x="2891" y="23"/>
                    </a:lnTo>
                    <a:lnTo>
                      <a:pt x="2922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143240" y="642600"/>
                <a:ext cx="4638600" cy="5136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6807240" y="888840"/>
              <a:ext cx="1698480" cy="574920"/>
              <a:chOff x="6807240" y="888840"/>
              <a:chExt cx="1698480" cy="57492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8277120" y="1235160"/>
                <a:ext cx="228600" cy="228600"/>
                <a:chOff x="8277120" y="1235160"/>
                <a:chExt cx="228600" cy="22860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8277120" y="1235160"/>
                  <a:ext cx="228600" cy="22860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8349840" y="12988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6807240" y="888840"/>
                <a:ext cx="1104840" cy="419040"/>
                <a:chOff x="6807240" y="888840"/>
                <a:chExt cx="1104840" cy="41904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6807240" y="888840"/>
                  <a:ext cx="1104840" cy="419040"/>
                </a:xfrm>
                <a:prstGeom prst="wedgeRectCallout">
                  <a:avLst>
                    <a:gd name="adj1" fmla="val 89800"/>
                    <a:gd name="adj2" fmla="val 46212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  <a:effectLst>
                  <a:outerShdw dist="71785" dir="2700000" blurRad="0" rotWithShape="0">
                    <a:srgbClr val="b2b2b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908760" y="939600"/>
                  <a:ext cx="92700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96, 230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9" name=""/>
            <p:cNvGrpSpPr/>
            <p:nvPr/>
          </p:nvGrpSpPr>
          <p:grpSpPr>
            <a:xfrm>
              <a:off x="4387680" y="4351320"/>
              <a:ext cx="1568520" cy="601560"/>
              <a:chOff x="4387680" y="4351320"/>
              <a:chExt cx="1568520" cy="60156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4387680" y="4351320"/>
                <a:ext cx="227160" cy="228600"/>
                <a:chOff x="4387680" y="4351320"/>
                <a:chExt cx="227160" cy="22860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387680" y="4351320"/>
                  <a:ext cx="227160" cy="22860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459680" y="441504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4851360" y="4533840"/>
                <a:ext cx="1104840" cy="419040"/>
                <a:chOff x="4851360" y="4533840"/>
                <a:chExt cx="1104840" cy="41904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4851360" y="4533840"/>
                  <a:ext cx="1104840" cy="419040"/>
                </a:xfrm>
                <a:prstGeom prst="wedgeRectCallout">
                  <a:avLst>
                    <a:gd name="adj1" fmla="val -80314"/>
                    <a:gd name="adj2" fmla="val -6590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  <a:effectLst>
                  <a:outerShdw dist="71785" dir="2700000" blurRad="0" rotWithShape="0">
                    <a:srgbClr val="b2b2b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952880" y="4584600"/>
                  <a:ext cx="927360" cy="33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8, 138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96" name=""/>
          <p:cNvSpPr/>
          <p:nvPr/>
        </p:nvSpPr>
        <p:spPr>
          <a:xfrm>
            <a:off x="764640" y="3497400"/>
            <a:ext cx="1571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e000d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6f6c"/>
                </a:solidFill>
                <a:latin typeface="Times New Roman"/>
              </a:rPr>
              <a:t>m</a:t>
            </a:r>
            <a:r>
              <a:rPr b="0" i="1" lang="en-US" sz="1000" spc="-1" strike="noStrike">
                <a:solidFill>
                  <a:srgbClr val="006f6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e000d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991440" y="1871640"/>
            <a:ext cx="1579320" cy="731880"/>
            <a:chOff x="991440" y="1871640"/>
            <a:chExt cx="1579320" cy="731880"/>
          </a:xfrm>
        </p:grpSpPr>
        <p:sp>
          <p:nvSpPr>
            <p:cNvPr id="498" name=""/>
            <p:cNvSpPr/>
            <p:nvPr/>
          </p:nvSpPr>
          <p:spPr>
            <a:xfrm>
              <a:off x="1324800" y="1871640"/>
              <a:ext cx="1245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23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13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266840" y="2252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69160" y="2176560"/>
              <a:ext cx="7887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9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91440" y="2074680"/>
              <a:ext cx="17280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0" y="533520"/>
            <a:ext cx="9075600" cy="5808600"/>
            <a:chOff x="0" y="533520"/>
            <a:chExt cx="9075600" cy="5808600"/>
          </a:xfrm>
        </p:grpSpPr>
        <p:sp>
          <p:nvSpPr>
            <p:cNvPr id="503" name=""/>
            <p:cNvSpPr/>
            <p:nvPr/>
          </p:nvSpPr>
          <p:spPr>
            <a:xfrm>
              <a:off x="0" y="1820880"/>
              <a:ext cx="9075600" cy="452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639960" y="533520"/>
              <a:ext cx="5435640" cy="16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509040" y="4191120"/>
            <a:ext cx="17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9.6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70240" y="2019240"/>
            <a:ext cx="3129120" cy="473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170240" y="1968480"/>
            <a:ext cx="32641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66640" y="2043000"/>
            <a:ext cx="31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Write slope intercept fo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70240" y="2576520"/>
            <a:ext cx="375948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170240" y="2527200"/>
            <a:ext cx="3789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170240" y="2604960"/>
            <a:ext cx="38703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Substitute </a:t>
            </a:r>
            <a:r>
              <a:rPr b="0" lang="en-US" sz="2800" spc="-1" strike="noStrike">
                <a:solidFill>
                  <a:srgbClr val="006f6c"/>
                </a:solidFill>
                <a:latin typeface="Times New Roman"/>
              </a:rPr>
              <a:t>1.05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 for </a:t>
            </a:r>
            <a:r>
              <a:rPr b="0" i="1" lang="en-US" sz="3200" spc="-1" strike="noStrike">
                <a:solidFill>
                  <a:srgbClr val="006f6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 for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38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 for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2000" spc="-1" strike="noStrike">
                <a:solidFill>
                  <a:srgbClr val="0a50a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70240" y="3573360"/>
            <a:ext cx="1125720" cy="50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70240" y="3517920"/>
            <a:ext cx="1224000" cy="56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172040" y="361008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70240" y="4249800"/>
            <a:ext cx="1460520" cy="444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70240" y="4178160"/>
            <a:ext cx="153684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169880" y="4159080"/>
            <a:ext cx="152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Solve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551160" y="4559400"/>
            <a:ext cx="7830720" cy="1460520"/>
            <a:chOff x="551160" y="4559400"/>
            <a:chExt cx="7830720" cy="1460520"/>
          </a:xfrm>
        </p:grpSpPr>
        <p:sp>
          <p:nvSpPr>
            <p:cNvPr id="519" name=""/>
            <p:cNvSpPr/>
            <p:nvPr/>
          </p:nvSpPr>
          <p:spPr>
            <a:xfrm>
              <a:off x="4825800" y="4559400"/>
              <a:ext cx="3556080" cy="1460520"/>
            </a:xfrm>
            <a:prstGeom prst="irregularSeal1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51160" y="4876920"/>
              <a:ext cx="715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 equation of the best-fitting line i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3399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 = 1.05</a:t>
              </a:r>
              <a:r>
                <a:rPr b="0" i="1" lang="en-US" sz="2400" spc="-1" strike="noStrike">
                  <a:solidFill>
                    <a:srgbClr val="003399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3399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 + 129.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840600" y="2670120"/>
            <a:ext cx="296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3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f6c"/>
                </a:solidFill>
                <a:latin typeface="Times New Roman"/>
              </a:rPr>
              <a:t>1.0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185840" y="1930320"/>
            <a:ext cx="175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6f6c"/>
                </a:solidFill>
                <a:latin typeface="Times New Roman"/>
              </a:rPr>
              <a:t>m</a:t>
            </a:r>
            <a:r>
              <a:rPr b="0" i="1" lang="en-US" sz="1000" spc="-1" strike="noStrike">
                <a:solidFill>
                  <a:srgbClr val="006f6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57160" y="3460680"/>
            <a:ext cx="24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8.4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608760" y="876240"/>
            <a:ext cx="1653840" cy="868680"/>
            <a:chOff x="608760" y="876240"/>
            <a:chExt cx="1653840" cy="868680"/>
          </a:xfrm>
        </p:grpSpPr>
        <p:sp>
          <p:nvSpPr>
            <p:cNvPr id="525" name=""/>
            <p:cNvSpPr/>
            <p:nvPr/>
          </p:nvSpPr>
          <p:spPr>
            <a:xfrm>
              <a:off x="1452240" y="876240"/>
              <a:ext cx="8103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0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e000d"/>
                  </a:solidFill>
                  <a:latin typeface="Times New Roman"/>
                </a:rPr>
                <a:t>y</a:t>
              </a:r>
              <a:r>
                <a:rPr b="0" lang="en-US" sz="2800" spc="-1" strike="noStrike" baseline="-25000">
                  <a:solidFill>
                    <a:srgbClr val="fe000d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17320" y="1258920"/>
              <a:ext cx="8103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e000d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fe000d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8760" y="1060560"/>
              <a:ext cx="619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43160" y="13446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0" y="5467320"/>
            <a:ext cx="9144000" cy="820800"/>
            <a:chOff x="0" y="5467320"/>
            <a:chExt cx="9144000" cy="820800"/>
          </a:xfrm>
        </p:grpSpPr>
        <p:sp>
          <p:nvSpPr>
            <p:cNvPr id="530" name=""/>
            <p:cNvSpPr/>
            <p:nvPr/>
          </p:nvSpPr>
          <p:spPr>
            <a:xfrm>
              <a:off x="0" y="5467320"/>
              <a:ext cx="9144000" cy="820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58720" y="5537160"/>
              <a:ext cx="74930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In most years, the winner of the discus throw was able to throw the discus farther than the previous winn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322200" y="90360"/>
            <a:ext cx="5231520" cy="460440"/>
            <a:chOff x="322200" y="90360"/>
            <a:chExt cx="5231520" cy="460440"/>
          </a:xfrm>
        </p:grpSpPr>
        <p:sp>
          <p:nvSpPr>
            <p:cNvPr id="533" name=""/>
            <p:cNvSpPr/>
            <p:nvPr/>
          </p:nvSpPr>
          <p:spPr>
            <a:xfrm>
              <a:off x="1698480" y="127080"/>
              <a:ext cx="385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roximating a Best-Fitting L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4" name="" descr=""/>
            <p:cNvPicPr/>
            <p:nvPr/>
          </p:nvPicPr>
          <p:blipFill>
            <a:blip r:embed="rId3"/>
            <a:stretch/>
          </p:blipFill>
          <p:spPr>
            <a:xfrm>
              <a:off x="322200" y="9036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5" name=""/>
          <p:cNvSpPr/>
          <p:nvPr/>
        </p:nvSpPr>
        <p:spPr>
          <a:xfrm>
            <a:off x="1752480" y="492120"/>
            <a:ext cx="70358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2395080" y="950760"/>
            <a:ext cx="3415680" cy="823320"/>
            <a:chOff x="2395080" y="950760"/>
            <a:chExt cx="3415680" cy="823320"/>
          </a:xfrm>
        </p:grpSpPr>
        <p:grpSp>
          <p:nvGrpSpPr>
            <p:cNvPr id="537" name=""/>
            <p:cNvGrpSpPr/>
            <p:nvPr/>
          </p:nvGrpSpPr>
          <p:grpSpPr>
            <a:xfrm>
              <a:off x="2395080" y="950760"/>
              <a:ext cx="3415680" cy="823320"/>
              <a:chOff x="2395080" y="950760"/>
              <a:chExt cx="3415680" cy="823320"/>
            </a:xfrm>
          </p:grpSpPr>
          <p:grpSp>
            <p:nvGrpSpPr>
              <p:cNvPr id="538" name=""/>
              <p:cNvGrpSpPr/>
              <p:nvPr/>
            </p:nvGrpSpPr>
            <p:grpSpPr>
              <a:xfrm>
                <a:off x="2395080" y="950760"/>
                <a:ext cx="1583280" cy="823320"/>
                <a:chOff x="2395080" y="950760"/>
                <a:chExt cx="1583280" cy="82332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2728440" y="950760"/>
                  <a:ext cx="124596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91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230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–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3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682720" y="1332000"/>
                  <a:ext cx="129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-9144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885400" y="1255680"/>
                  <a:ext cx="78876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91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96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–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395080" y="1166760"/>
                  <a:ext cx="172800" cy="42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9144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4071240" y="1077840"/>
                <a:ext cx="1739520" cy="676440"/>
                <a:chOff x="4071240" y="1077840"/>
                <a:chExt cx="1739520" cy="676440"/>
              </a:xfrm>
            </p:grpSpPr>
            <p:grpSp>
              <p:nvGrpSpPr>
                <p:cNvPr id="544" name=""/>
                <p:cNvGrpSpPr/>
                <p:nvPr/>
              </p:nvGrpSpPr>
              <p:grpSpPr>
                <a:xfrm>
                  <a:off x="4071240" y="1077840"/>
                  <a:ext cx="762840" cy="676440"/>
                  <a:chOff x="4071240" y="1077840"/>
                  <a:chExt cx="762840" cy="67644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>
                    <a:off x="4474800" y="1077840"/>
                    <a:ext cx="305640" cy="676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91440" anchor="t">
                    <a:sp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9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8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4376880" y="133344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90000" tIns="-9144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4071240" y="1157400"/>
                    <a:ext cx="172800" cy="420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91440" anchor="t">
                    <a:sp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"/>
                <p:cNvSpPr/>
                <p:nvPr/>
              </p:nvSpPr>
              <p:spPr>
                <a:xfrm>
                  <a:off x="4971600" y="1147680"/>
                  <a:ext cx="839160" cy="42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9144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6f6c"/>
                      </a:solidFill>
                      <a:latin typeface="Times New Roman"/>
                    </a:rPr>
                    <a:t>    </a:t>
                  </a:r>
                  <a:r>
                    <a:rPr b="0" lang="en-US" sz="2400" spc="-1" strike="noStrike">
                      <a:solidFill>
                        <a:srgbClr val="006f6c"/>
                      </a:solidFill>
                      <a:latin typeface="Times New Roman"/>
                    </a:rPr>
                    <a:t>1.0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549" name="" descr=""/>
            <p:cNvPicPr/>
            <p:nvPr/>
          </p:nvPicPr>
          <p:blipFill>
            <a:blip r:embed="rId4"/>
            <a:stretch/>
          </p:blipFill>
          <p:spPr>
            <a:xfrm>
              <a:off x="4960800" y="1079640"/>
              <a:ext cx="225720" cy="533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252360" y="1160640"/>
            <a:ext cx="3405240" cy="1887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346040" y="201600"/>
            <a:ext cx="63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ERMINING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RELATION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176040" y="227160"/>
            <a:ext cx="1097280" cy="43308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460520" y="6224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924360" y="1155600"/>
            <a:ext cx="4800600" cy="4572000"/>
            <a:chOff x="3924360" y="1155600"/>
            <a:chExt cx="4800600" cy="4572000"/>
          </a:xfrm>
        </p:grpSpPr>
        <p:sp>
          <p:nvSpPr>
            <p:cNvPr id="556" name=""/>
            <p:cNvSpPr/>
            <p:nvPr/>
          </p:nvSpPr>
          <p:spPr>
            <a:xfrm>
              <a:off x="3924360" y="1155600"/>
              <a:ext cx="4800600" cy="4572000"/>
            </a:xfrm>
            <a:prstGeom prst="rect">
              <a:avLst/>
            </a:prstGeom>
            <a:solidFill>
              <a:srgbClr val="f9e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332760" y="115560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924360" y="3441600"/>
              <a:ext cx="4800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152960" y="1689120"/>
            <a:ext cx="4114800" cy="3048120"/>
            <a:chOff x="4152960" y="1689120"/>
            <a:chExt cx="4114800" cy="3048120"/>
          </a:xfrm>
        </p:grpSpPr>
        <p:sp>
          <p:nvSpPr>
            <p:cNvPr id="560" name=""/>
            <p:cNvSpPr/>
            <p:nvPr/>
          </p:nvSpPr>
          <p:spPr>
            <a:xfrm>
              <a:off x="4305240" y="46609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039160" y="17654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962840" y="17654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58280" y="20700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05640" y="20700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124760" y="24512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972480" y="27558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819840" y="26035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43880" y="283212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515280" y="306072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10360" y="30607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48240" y="38228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191440" y="16891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43680" y="38988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991040" y="42037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762440" y="42800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10160" y="43560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152960" y="45846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1117440" y="1620720"/>
            <a:ext cx="2210040" cy="309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079640" y="2535120"/>
            <a:ext cx="1689120" cy="335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45960" y="1260360"/>
            <a:ext cx="34084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is scatter plot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itive correl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ich means that the points can be approximated by a line with a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ositive slo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4178160" y="1477800"/>
            <a:ext cx="4343400" cy="3276720"/>
          </a:xfrm>
          <a:prstGeom prst="line">
            <a:avLst/>
          </a:prstGeom>
          <a:ln w="28440">
            <a:solidFill>
              <a:srgbClr val="0a50b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1346040" y="200160"/>
            <a:ext cx="63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ERMINING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RELATION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176040" y="227160"/>
            <a:ext cx="1097280" cy="43308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1460520" y="6224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55600" y="1160640"/>
            <a:ext cx="3414600" cy="1861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3921120" y="1150920"/>
            <a:ext cx="4800600" cy="4572000"/>
            <a:chOff x="3921120" y="1150920"/>
            <a:chExt cx="4800600" cy="4572000"/>
          </a:xfrm>
        </p:grpSpPr>
        <p:sp>
          <p:nvSpPr>
            <p:cNvPr id="587" name=""/>
            <p:cNvSpPr/>
            <p:nvPr/>
          </p:nvSpPr>
          <p:spPr>
            <a:xfrm>
              <a:off x="3921120" y="1150920"/>
              <a:ext cx="4800600" cy="4572000"/>
            </a:xfrm>
            <a:prstGeom prst="rect">
              <a:avLst/>
            </a:prstGeom>
            <a:solidFill>
              <a:srgbClr val="f9e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329520" y="11509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921120" y="3436920"/>
              <a:ext cx="4800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4559400" y="1371600"/>
            <a:ext cx="3047400" cy="4114800"/>
            <a:chOff x="4559400" y="1371600"/>
            <a:chExt cx="3047400" cy="4114800"/>
          </a:xfrm>
        </p:grpSpPr>
        <p:sp>
          <p:nvSpPr>
            <p:cNvPr id="591" name=""/>
            <p:cNvSpPr/>
            <p:nvPr/>
          </p:nvSpPr>
          <p:spPr>
            <a:xfrm rot="16200000">
              <a:off x="7530480" y="525780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16200000">
              <a:off x="4635000" y="1524240"/>
              <a:ext cx="76320" cy="7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6200000">
              <a:off x="4635000" y="1600560"/>
              <a:ext cx="76320" cy="7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16200000">
              <a:off x="4939920" y="190512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6200000">
              <a:off x="4939560" y="205740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6200000">
              <a:off x="5320800" y="2438640"/>
              <a:ext cx="76320" cy="7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6200000">
              <a:off x="5625720" y="259092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6200000">
              <a:off x="5473080" y="274320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6200000">
              <a:off x="5702040" y="281952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5930640" y="304812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6200000">
              <a:off x="5930280" y="335268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16200000">
              <a:off x="6692400" y="4115160"/>
              <a:ext cx="76320" cy="7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6200000">
              <a:off x="4559040" y="137160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6200000">
              <a:off x="6768720" y="441972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6200000">
              <a:off x="7073280" y="457200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6200000">
              <a:off x="7149600" y="4800960"/>
              <a:ext cx="76320" cy="7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6200000">
              <a:off x="7225560" y="495288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6200000">
              <a:off x="7454160" y="541008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 flipH="1" flipV="1">
            <a:off x="4454280" y="1244160"/>
            <a:ext cx="3276360" cy="4343400"/>
          </a:xfrm>
          <a:prstGeom prst="line">
            <a:avLst/>
          </a:prstGeom>
          <a:ln w="28440">
            <a:solidFill>
              <a:srgbClr val="0a50b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130400" y="1608120"/>
            <a:ext cx="2209680" cy="309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549440" y="2522520"/>
            <a:ext cx="1689120" cy="335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5960" y="1262160"/>
            <a:ext cx="31672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is scatter plot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ve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gative correl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ich means that the points can be approximated by a line with a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egative slo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255600" y="1160640"/>
            <a:ext cx="3414600" cy="1836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346040" y="200160"/>
            <a:ext cx="63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ERMINING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RELATION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176040" y="227160"/>
            <a:ext cx="1097280" cy="43308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1460520" y="6224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921120" y="1150920"/>
            <a:ext cx="4800600" cy="4572000"/>
            <a:chOff x="3921120" y="1150920"/>
            <a:chExt cx="4800600" cy="4572000"/>
          </a:xfrm>
        </p:grpSpPr>
        <p:sp>
          <p:nvSpPr>
            <p:cNvPr id="619" name=""/>
            <p:cNvSpPr/>
            <p:nvPr/>
          </p:nvSpPr>
          <p:spPr>
            <a:xfrm>
              <a:off x="3921120" y="1150920"/>
              <a:ext cx="4800600" cy="4572000"/>
            </a:xfrm>
            <a:prstGeom prst="rect">
              <a:avLst/>
            </a:prstGeom>
            <a:solidFill>
              <a:srgbClr val="f9e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9520" y="11509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921120" y="3436920"/>
              <a:ext cx="4800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4595760" y="1230480"/>
            <a:ext cx="3583080" cy="4421160"/>
            <a:chOff x="4595760" y="1230480"/>
            <a:chExt cx="3583080" cy="4421160"/>
          </a:xfrm>
        </p:grpSpPr>
        <p:sp>
          <p:nvSpPr>
            <p:cNvPr id="623" name=""/>
            <p:cNvSpPr/>
            <p:nvPr/>
          </p:nvSpPr>
          <p:spPr>
            <a:xfrm rot="16200000">
              <a:off x="7569000" y="511668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6578640" y="206964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5359320" y="14590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4749840" y="44323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5054400" y="306072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102520" y="30607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16200000">
              <a:off x="5662800" y="244944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16200000">
              <a:off x="6197400" y="557532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16200000">
              <a:off x="6807240" y="26776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6200000">
              <a:off x="5967360" y="29062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16200000">
              <a:off x="5967360" y="321156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16200000">
              <a:off x="7645320" y="206964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16200000">
              <a:off x="4595760" y="12304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16200000">
              <a:off x="6805800" y="427824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16200000">
              <a:off x="4978440" y="412704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16200000">
              <a:off x="7186680" y="46594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16200000">
              <a:off x="7416720" y="389844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16200000">
              <a:off x="5740560" y="435600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4595760" y="1230480"/>
            <a:ext cx="3583080" cy="4421160"/>
            <a:chOff x="4595760" y="1230480"/>
            <a:chExt cx="3583080" cy="4421160"/>
          </a:xfrm>
        </p:grpSpPr>
        <p:sp>
          <p:nvSpPr>
            <p:cNvPr id="642" name=""/>
            <p:cNvSpPr/>
            <p:nvPr/>
          </p:nvSpPr>
          <p:spPr>
            <a:xfrm rot="16200000">
              <a:off x="7569000" y="511668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16200000">
              <a:off x="6578640" y="206964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16200000">
              <a:off x="5359320" y="14590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16200000">
              <a:off x="4749840" y="44323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16200000">
              <a:off x="5054400" y="306072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6200000">
              <a:off x="8102520" y="30607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16200000">
              <a:off x="5662800" y="244944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97400" y="557532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16200000">
              <a:off x="6807240" y="26776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16200000">
              <a:off x="5967360" y="29062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6200000">
              <a:off x="5967360" y="321156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16200000">
              <a:off x="7645320" y="206964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6200000">
              <a:off x="4595760" y="12304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6200000">
              <a:off x="6805800" y="427824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16200000">
              <a:off x="4978440" y="412704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16200000">
              <a:off x="7186680" y="46594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16200000">
              <a:off x="7416720" y="389844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16200000">
              <a:off x="5740560" y="435600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1955880" y="1608120"/>
            <a:ext cx="1587600" cy="309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06440" y="2217600"/>
            <a:ext cx="901800" cy="335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45960" y="1245240"/>
            <a:ext cx="335916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is scatter plot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ve relativel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correl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ich means that the points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an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be approximated b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2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1346040" y="200160"/>
            <a:ext cx="63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ERMINING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RELATION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176040" y="227160"/>
            <a:ext cx="1097280" cy="43308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1460520" y="6224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3352680" y="2376360"/>
            <a:ext cx="2362320" cy="2362320"/>
            <a:chOff x="3352680" y="2376360"/>
            <a:chExt cx="2362320" cy="2362320"/>
          </a:xfrm>
        </p:grpSpPr>
        <p:sp>
          <p:nvSpPr>
            <p:cNvPr id="668" name=""/>
            <p:cNvSpPr/>
            <p:nvPr/>
          </p:nvSpPr>
          <p:spPr>
            <a:xfrm>
              <a:off x="3352680" y="2376360"/>
              <a:ext cx="2362320" cy="2362320"/>
            </a:xfrm>
            <a:prstGeom prst="rect">
              <a:avLst/>
            </a:prstGeom>
            <a:solidFill>
              <a:srgbClr val="f9e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537800" y="2376360"/>
              <a:ext cx="0" cy="236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352680" y="3557520"/>
              <a:ext cx="236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6324480" y="2376360"/>
            <a:ext cx="2362320" cy="2362320"/>
            <a:chOff x="6324480" y="2376360"/>
            <a:chExt cx="2362320" cy="2362320"/>
          </a:xfrm>
        </p:grpSpPr>
        <p:sp>
          <p:nvSpPr>
            <p:cNvPr id="672" name=""/>
            <p:cNvSpPr/>
            <p:nvPr/>
          </p:nvSpPr>
          <p:spPr>
            <a:xfrm>
              <a:off x="6324480" y="2376360"/>
              <a:ext cx="2362320" cy="2362320"/>
            </a:xfrm>
            <a:prstGeom prst="rect">
              <a:avLst/>
            </a:prstGeom>
            <a:solidFill>
              <a:srgbClr val="f9e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509600" y="2376360"/>
              <a:ext cx="0" cy="236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324480" y="3557520"/>
              <a:ext cx="236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0880" y="2376360"/>
            <a:ext cx="2362320" cy="2362320"/>
            <a:chOff x="380880" y="2376360"/>
            <a:chExt cx="2362320" cy="2362320"/>
          </a:xfrm>
        </p:grpSpPr>
        <p:sp>
          <p:nvSpPr>
            <p:cNvPr id="676" name=""/>
            <p:cNvSpPr/>
            <p:nvPr/>
          </p:nvSpPr>
          <p:spPr>
            <a:xfrm>
              <a:off x="380880" y="2376360"/>
              <a:ext cx="2362320" cy="2362320"/>
            </a:xfrm>
            <a:prstGeom prst="rect">
              <a:avLst/>
            </a:prstGeom>
            <a:solidFill>
              <a:srgbClr val="f9e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566000" y="2376360"/>
              <a:ext cx="0" cy="236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0880" y="3557520"/>
              <a:ext cx="236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2611440" y="1071720"/>
            <a:ext cx="3749760" cy="461160"/>
            <a:chOff x="2611440" y="1071720"/>
            <a:chExt cx="3749760" cy="461160"/>
          </a:xfrm>
        </p:grpSpPr>
        <p:sp>
          <p:nvSpPr>
            <p:cNvPr id="680" name=""/>
            <p:cNvSpPr/>
            <p:nvPr/>
          </p:nvSpPr>
          <p:spPr>
            <a:xfrm>
              <a:off x="2611440" y="1071720"/>
              <a:ext cx="3749760" cy="452520"/>
            </a:xfrm>
            <a:prstGeom prst="rect">
              <a:avLst/>
            </a:prstGeom>
            <a:solidFill>
              <a:srgbClr val="008f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656080" y="1073160"/>
              <a:ext cx="368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PES OF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RE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380880" y="1930320"/>
            <a:ext cx="235908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 anchorCtr="1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sitive Cor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324480" y="1930320"/>
            <a:ext cx="235908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 Cor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352680" y="1930320"/>
            <a:ext cx="235908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gative Cor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533760" y="2733840"/>
            <a:ext cx="1957320" cy="1863720"/>
          </a:xfrm>
          <a:prstGeom prst="line">
            <a:avLst/>
          </a:prstGeom>
          <a:ln w="22320">
            <a:solidFill>
              <a:srgbClr val="0a50b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431640" y="2811240"/>
            <a:ext cx="2219400" cy="1285560"/>
          </a:xfrm>
          <a:prstGeom prst="line">
            <a:avLst/>
          </a:prstGeom>
          <a:ln w="22320">
            <a:solidFill>
              <a:srgbClr val="0a50b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609480" y="2921040"/>
            <a:ext cx="1828800" cy="1066680"/>
            <a:chOff x="609480" y="2921040"/>
            <a:chExt cx="1828800" cy="1066680"/>
          </a:xfrm>
        </p:grpSpPr>
        <p:sp>
          <p:nvSpPr>
            <p:cNvPr id="688" name=""/>
            <p:cNvSpPr/>
            <p:nvPr/>
          </p:nvSpPr>
          <p:spPr>
            <a:xfrm>
              <a:off x="677160" y="3961080"/>
              <a:ext cx="33840" cy="2664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36760" y="2947680"/>
              <a:ext cx="33840" cy="2628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02920" y="2947680"/>
              <a:ext cx="33840" cy="2628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167560" y="3054240"/>
              <a:ext cx="33480" cy="2664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099520" y="3054240"/>
              <a:ext cx="33840" cy="2664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30320" y="3187800"/>
              <a:ext cx="33840" cy="2628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862640" y="3294360"/>
              <a:ext cx="33480" cy="2664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794600" y="3241080"/>
              <a:ext cx="33840" cy="2664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761120" y="3321000"/>
              <a:ext cx="33480" cy="2664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659240" y="3400920"/>
              <a:ext cx="33480" cy="2664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523880" y="3400920"/>
              <a:ext cx="33840" cy="2664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85120" y="3667680"/>
              <a:ext cx="33840" cy="2628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404440" y="2921040"/>
              <a:ext cx="33840" cy="2664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049760" y="3694320"/>
              <a:ext cx="33480" cy="2664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981720" y="3800880"/>
              <a:ext cx="33840" cy="2664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80200" y="3827880"/>
              <a:ext cx="33840" cy="2628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2520" y="3854160"/>
              <a:ext cx="33840" cy="2664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09480" y="3934440"/>
              <a:ext cx="33840" cy="2664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3670200" y="2857320"/>
            <a:ext cx="1600200" cy="1600200"/>
            <a:chOff x="3670200" y="2857320"/>
            <a:chExt cx="1600200" cy="1600200"/>
          </a:xfrm>
        </p:grpSpPr>
        <p:sp>
          <p:nvSpPr>
            <p:cNvPr id="707" name=""/>
            <p:cNvSpPr/>
            <p:nvPr/>
          </p:nvSpPr>
          <p:spPr>
            <a:xfrm rot="16200000">
              <a:off x="5235480" y="4363560"/>
              <a:ext cx="29520" cy="3996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16200000">
              <a:off x="3715200" y="2911680"/>
              <a:ext cx="29520" cy="3960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16200000">
              <a:off x="3715200" y="2941200"/>
              <a:ext cx="29520" cy="3960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16200000">
              <a:off x="3875040" y="3059280"/>
              <a:ext cx="29520" cy="3996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16200000">
              <a:off x="3875040" y="3118680"/>
              <a:ext cx="29520" cy="3996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16200000">
              <a:off x="4075200" y="3267360"/>
              <a:ext cx="29520" cy="3960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16200000">
              <a:off x="4235040" y="3326040"/>
              <a:ext cx="29520" cy="3996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16200000">
              <a:off x="4155120" y="3385440"/>
              <a:ext cx="29520" cy="3996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16200000">
              <a:off x="4275000" y="3414960"/>
              <a:ext cx="29520" cy="3996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16200000">
              <a:off x="4395240" y="3503880"/>
              <a:ext cx="29520" cy="3996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16200000">
              <a:off x="4395240" y="3622680"/>
              <a:ext cx="29520" cy="3996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16200000">
              <a:off x="4795200" y="3919320"/>
              <a:ext cx="29520" cy="3960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16200000">
              <a:off x="3675240" y="2851920"/>
              <a:ext cx="29520" cy="3996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16200000">
              <a:off x="4835160" y="4037400"/>
              <a:ext cx="29520" cy="3996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16200000">
              <a:off x="4995360" y="4096800"/>
              <a:ext cx="29520" cy="3996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16200000">
              <a:off x="5035320" y="4186080"/>
              <a:ext cx="29520" cy="3960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16200000">
              <a:off x="5075280" y="4245120"/>
              <a:ext cx="29520" cy="3996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16200000">
              <a:off x="5195160" y="4422600"/>
              <a:ext cx="29520" cy="3996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6629400" y="2730600"/>
            <a:ext cx="1753920" cy="1599840"/>
            <a:chOff x="6629400" y="2730600"/>
            <a:chExt cx="1753920" cy="1599840"/>
          </a:xfrm>
        </p:grpSpPr>
        <p:sp>
          <p:nvSpPr>
            <p:cNvPr id="726" name=""/>
            <p:cNvSpPr/>
            <p:nvPr/>
          </p:nvSpPr>
          <p:spPr>
            <a:xfrm rot="16200000">
              <a:off x="8089920" y="4132080"/>
              <a:ext cx="27360" cy="3708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16200000">
              <a:off x="7605000" y="3029400"/>
              <a:ext cx="27360" cy="3708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16200000">
              <a:off x="7007760" y="2808000"/>
              <a:ext cx="27360" cy="3708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16200000">
              <a:off x="6709320" y="3884400"/>
              <a:ext cx="27360" cy="3708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16200000">
              <a:off x="6858720" y="3387960"/>
              <a:ext cx="27360" cy="3708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6200000">
              <a:off x="8350920" y="3387960"/>
              <a:ext cx="27360" cy="3708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16200000">
              <a:off x="7156440" y="3166920"/>
              <a:ext cx="27360" cy="3708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16200000">
              <a:off x="7418160" y="4298040"/>
              <a:ext cx="27360" cy="3708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16200000">
              <a:off x="7716600" y="3249360"/>
              <a:ext cx="27360" cy="3708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16200000">
              <a:off x="7305480" y="3332160"/>
              <a:ext cx="27360" cy="3708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16200000">
              <a:off x="7305480" y="3442680"/>
              <a:ext cx="27360" cy="3708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6200000">
              <a:off x="8127000" y="3029400"/>
              <a:ext cx="27360" cy="3708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16200000">
              <a:off x="6634080" y="2725560"/>
              <a:ext cx="27360" cy="3708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16200000">
              <a:off x="7715880" y="3828600"/>
              <a:ext cx="27360" cy="3708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16200000">
              <a:off x="6821280" y="3774240"/>
              <a:ext cx="27360" cy="3708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16200000">
              <a:off x="7902720" y="3966480"/>
              <a:ext cx="27360" cy="3708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6200000">
              <a:off x="8015040" y="3691440"/>
              <a:ext cx="27360" cy="3708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16200000">
              <a:off x="7194600" y="3857040"/>
              <a:ext cx="27360" cy="3708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4" name="" descr=""/>
          <p:cNvPicPr/>
          <p:nvPr/>
        </p:nvPicPr>
        <p:blipFill>
          <a:blip r:embed="rId2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7:29:48Z</dcterms:created>
  <dc:creator>McDougal Littell</dc:creator>
  <dc:description/>
  <dc:language>en-US</dc:language>
  <cp:lastModifiedBy>y2k2pc</cp:lastModifiedBy>
  <dcterms:modified xsi:type="dcterms:W3CDTF">2000-04-03T19:08:54Z</dcterms:modified>
  <cp:revision>24</cp:revision>
  <dc:subject/>
  <dc:title>No Slide Title</dc:title>
</cp:coreProperties>
</file>